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wmf" ContentType="image/x-wmf"/>
  <Override PartName="/ppt/media/image30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29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8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11.gif" ContentType="image/gif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</p:sldMasterIdLst>
  <p:notesMasterIdLst>
    <p:notesMasterId r:id="rId32"/>
  </p:notes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notesMaster" Target="notesMasters/notesMaster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dt" idx="4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move the slide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 type="ftr" idx="4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 type="sldNum" idx="4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B25A-D288-464C-BFB7-56A3EE28818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DCBC-C42A-45A3-A017-54367A896CF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4DCC-2465-41DE-B4E4-6FE59A6CF3C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77DB-12FD-457B-AEDC-F366E1CE7EA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C4B8-7372-42B0-BF82-7597FC0E688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6B23-36CF-4E84-B1CD-200E7404CE2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7BFD-6A9A-4F69-AB0B-FF3CD9632BC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75C0-7BA0-4BA6-A0DD-5066B995F12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8846-7F72-48AE-B893-76A9592CFCD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763B-6298-42B8-9BCA-4632C4C5492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9D90-57AD-4AC7-8B4B-7A2999213F0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AB44-CFC4-439E-B3C0-2820838164A9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CB1F-6405-4574-B236-A7F8BA54F9E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D190-56EF-471F-A029-48BF0CDCA23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Book Antiqua"/>
              <a:ea typeface="新細明體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ED24-27A4-4111-A508-D87F97D328F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(LINCOLN) AND (abraham) </a:t>
            </a:r>
            <a:r>
              <a:rPr b="0" lang="zh-TW" sz="1200" spc="-1" strike="noStrike">
                <a:solidFill>
                  <a:srgbClr val="000000"/>
                </a:solidFill>
                <a:latin typeface="Arial"/>
                <a:ea typeface="新細明體"/>
              </a:rPr>
              <a:t>文獻列表的第一筆結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1451-95C9-4A47-9A80-FE086A27D1E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41CA-00FB-4017-8936-E5302A0A5B0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3F6A-902D-4C70-8B93-CF921D31BAA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A87E-20E6-4B9E-B0A1-492EBBE9E96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786B-C2F4-4CDA-B38D-E9DF7544C43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4825-15FE-466C-9B90-62BBBDD4A0B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5DDB-A4E2-4E5C-8745-FC0B88B7272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1F65-2523-4B41-A051-8A7753E619B0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0729-5F5B-4246-85C3-0F704F956C56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由非营利组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THAK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供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TO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JSTOR - Journal Storage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始于美仑基金会的数字典藏计划，成立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，是一个提供学术界的研究与学习平台，并提供学术内容的保存服务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DC62-B1A4-4080-84C2-6A7D79C6A6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C703-61AC-4987-94E6-48D85A4E5D9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666A-F0EF-40F1-A091-6C286CACF091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F6BF-9F13-4DDB-9926-968C446B752F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投影片編號版面配置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332B-44A7-412A-9741-092895B49793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22EE-F231-4F04-97B4-260AC6B2866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344E-7D58-4342-A05B-B2A7949501D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4D879-0441-4218-AA1F-B9F8F68EDD9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C16F-EA11-4712-ABC9-0D0DBE5CC9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9F4B-181F-42C8-A855-4CCA40A7305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00ACD-EE7A-43EB-AAE8-95AFFF84B7F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311F5-5A6A-418C-B85A-084588840AF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3683D-9EB5-4B8F-9DA6-97C9AA67E11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146B-CE89-4491-966E-BF132A84210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DECA1-F16F-4472-8542-8E5D4172F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04546A-450D-42FB-9836-2D6B934879F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27C1E4-9096-416E-9C74-43348EE4886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A53937-72BE-4568-8664-A75598B8B13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0A1FD-60BB-4B47-BEBE-4CE038235A1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9C3E7-95BC-408C-8AAB-764A3CCFA29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552A95-9304-48F6-A3C3-B1E6A658173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E97B30-EAE4-41BE-BD39-4C196560886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071B55-0FF6-4454-8580-DE02B94B5A2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BEEDA9-37FE-4DAA-A960-669A8F0E81B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C727C-8BD5-4DA1-A3B0-50AA43DA4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91C77-F905-4923-9A50-3925BEF00C0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7D2357-10C5-4971-BA93-63110BCB260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45231-374A-4B71-ADBD-169E6D69CFF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9E9DB-5584-437C-B911-62FDA975CBC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8E78DF-9C2F-4280-8D32-175ECD24BD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B8E7D-7338-4026-9911-DF4D035F326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1D229-F73B-41DA-9E29-FDB16E3C6AB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B8F45-B4B5-441A-AAFF-E23D1E0133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015FE-2983-4A76-AFEC-CA313759F2A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87BFA-05D2-4B3F-8A1B-552E8891E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DFB9B-8728-4CAA-96E4-F5C27609826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220E5-77EC-4DF5-A8BF-1826673A151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472D4E-99F3-4054-8B3E-2FE1B676710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F0A92-7DCA-4EFE-9840-1C403548C8F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7E8D5-A766-4CDA-B599-81356438607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B9F17-599F-410F-9012-6F9021BA779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53FB-0A7E-4D67-9136-B6E635285C8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B3793-2D25-4709-8633-E8A3A19C71E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EEBA9-4A80-44C2-BA6C-C49B0CE4817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BEF17-F80B-4D8C-9B09-EF439700C7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BB14E-4513-40FA-A0FE-440F0C5AD6B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492B-48B6-4967-BA60-C525572BDB4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1B096-7C1D-45D2-A4D8-19F78DD1348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81807-B311-4DE7-95B8-A5B455302B9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ABFC6-C6EE-4018-8346-CBCA3BA90F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271A4E-F65D-45E7-87B4-44F3A0AA253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D4FAFE-DE65-48C3-8637-23BAA83C310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C571A2-174B-4C16-834A-A82F58A05DA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5F5982-9C88-4AC1-93BB-36E0074B42E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C8384A-0F64-46FF-ADE6-74AFF9B08E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BCE628-1C43-49DC-9067-09FCB92C53A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D4F480-0576-4EC7-B8B6-E8CE30E40FB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30AE91-BAAB-4F9B-8DD6-4680EFBD5DE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6634F7-DDF5-47C9-AA1E-0A1E3B7C2CA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2B065B-9CDE-4075-9491-45B26730D47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6C7E85-984C-4F7D-941E-3E668E6FC49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C68235-6025-4B59-AA42-97BABD8D12F5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7E655-A925-4103-9097-2E3F15AEFCE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682393-0FCD-496B-9FD9-81C06FB64F2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2775C1-2D11-4437-B73D-C56BD7F6B5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CBDDA-83E8-41A6-AFB0-0516C2F41E3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216F96-AEDF-4BFF-A820-88D547B9A04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A37B68-75D8-43E4-878B-2586E14C351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91ED75-BA01-48DF-B5F3-DB7835F051E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DA9CBB-2613-4246-AE06-00EC767CB6D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21FDC9-2B3B-42B5-8C26-007C790813C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8D511-BE04-4507-AABE-BDB0BEDE9D1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10C16-D3F2-475A-905F-579345C1D47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F085D-EFC4-4440-BA18-E8BCCA7BAAA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74654-946A-400F-8693-5BDEC66106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80E72-50AD-4A54-B3E4-67D12CDCC8F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A56A5-327D-4BBD-A09E-25AB9EA78BE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5B68B-D4CA-4FD2-89EE-823230A979E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2944B-8581-4254-AA21-A991254F33D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3BF91-A9E5-45E8-ABC8-E16DA8719F9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27253-6975-4759-8DEE-53AF747E79C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DB1FA-4409-40EA-8474-0926A16F7DA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EF0B-4ED5-4A2C-A0FB-DC6BB1E43C5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997D8-C298-4A26-8721-D60F61C88D8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B1C7C-5F2D-40AC-98D3-F5B2E36F3D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BD2A7-ED33-4674-B697-C83BEF774B1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C61-7F16-4200-A548-8C0A9D0A9C3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5C30-E4A3-4E5C-98B2-EDA1EF96173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4EE-19D7-4EE0-95E9-D1BBA21A190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66C-4F26-4C62-8358-617FCD937DA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40A-9702-444E-906C-D060E014D35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B81D-8C6E-4D74-942E-AFE73E5749D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2A36-721A-4821-99CD-6AC0C3A97F5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7DF-F416-48DA-81A3-19C3065F32D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F6D5F-044C-4A60-83DC-FC097234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4B37F-690A-45EB-B0D6-A47D09A6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DAFC5-A6D4-4330-9BE6-9C8C907F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5F86B-B66E-4B15-8FE5-F8D7F6A2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55C883-AA44-4FCD-A6F6-55753F5E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E64-150C-4471-A349-1E830E3CC06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8D23B-0428-439D-9E5F-BF819BB0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06A667-52E7-48CB-BAEA-90EB9A93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73DE1B-48DA-44C1-9E3F-33609D2F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9551FC-E537-411F-B704-C74A213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D9531-649D-4E16-A926-C196EDA5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21058-F673-4F34-BF08-4E08E8AB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989E4-2AE9-44E6-AA99-E4214AEB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17E2-F57B-4442-A30A-CA55577AD3AC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E67657B-2CE8-4E08-A76F-85CB67C985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F0C-7F54-4129-9696-927CC08130A2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37ADD9-5C1F-4BFC-B839-D2ED235ADED9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FF13B7-4940-465F-8BC5-6F101F3C423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C6EFD5-1270-470E-BE01-299521C0AA2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6D850D-1FF9-4066-B7FC-0A63EC080479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15570F-D24C-452E-BE75-880429291BD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FAF276D-1B6B-48E9-99E1-10775D6956E2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F9805C-A141-46DE-BFBF-D1D90146D3CB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E0D1BBD-44B2-4067-9C34-F0F4BCA6E6B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7B8F43-7FE6-497C-BF2B-51EB6F0F7836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FDFDEDF-C275-49CA-9445-0778167B88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262-7FAE-4D5B-BE5C-1F6561C87878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8A3AE6-AD4E-4875-AA1D-4633D758D5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91B638-758F-4D77-A892-C64C22928C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C535B-74BA-4D4F-A323-E419FE445A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E12911-EF1D-45B1-B950-A74A7E642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54524-2929-4363-99D1-4AA46B7A49E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EE37D-A30E-487A-BC40-401AB38370B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66732-F965-43E8-8D57-D03B35A1B8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D342D-C68D-4DE2-B702-0FD8BE5C288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992FE-9B4C-4198-8495-EBAC6EE237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BA0F3-8321-46DA-901F-365D256C48C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DC8FE-2AAB-4B99-896C-D1D8185683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3FD2F-A6BD-4C0A-BF3A-CF39BDCBA1A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056CD-4F0F-4629-8D47-6AB6D7ECD6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9A4A0-635E-4CE3-9771-A2F3E1A72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15D7C-19DB-4CCC-8FEE-958E4B2D11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0FE3E-21F3-4948-B1EB-FD888A70972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7F00B-921E-432E-A4AB-FC8F5E17496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F4A1D-D8BB-4F5B-B128-E23F52A6DF3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7E4B5-A6E0-4BB0-B903-AF9DAD70F5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73FE8-8526-45D3-999F-9F401F61EC6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D3F85-7C70-4D1F-8930-667AC53ECF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43CB0-A63E-4ACF-9BE5-617A1173F4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722A8-F557-41AF-9709-7356936C96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C97B7-D0E6-4F41-8144-371F801A8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C0DB5-CBF0-4FE8-B912-F935BF7C8B8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A7A9-AFEC-4B0E-9AD4-6FD7A37032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FD0A-4FBC-4D4D-8CD4-890682A64FA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868A-833E-461A-A1CA-0152E8A987C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2DFE-77BA-418D-BECD-5555A77FDE5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8EC1-7972-40BA-B040-97B362CB424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D529-1D97-4E52-ACFF-3AC0B7D6536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DADD-6069-4C1B-B554-6585AA01ECB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2E8C-6762-41B2-830E-D931BA300C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B29B-DA4F-44A2-A11D-8C3CE6DA6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30C6-5F11-4C46-93E5-820BF681DDE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3A51-3D0F-48CB-B487-AC3B5A36BD5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BC1D-9A33-4D81-B9DE-DDE4E2D9078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F7BAC-8B8B-47D6-983B-89ECC2B2E08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3F76D-6512-497B-B31A-E13B95EBB7D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C5FED4-7479-4305-9104-419E67BB23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789520-4F4C-46B8-8026-64DA2FDA1F3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212B0E-4018-41A2-A36D-8CAA835C59F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EBA26-4076-47C0-B547-CEDCC162838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196BB-1C0B-493E-A4B6-2609F2488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28F521-CEC5-470F-A95F-E6D6250154F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F12EAA-8B4E-4D85-B9D2-63E7E32C14E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2A9206-B72F-405E-BD67-D59782CF90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AA9163-7A17-44A4-918A-0F7046E92E7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1B45C-496A-4F87-B3D4-43B60195E5A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7A5687-9430-4AD6-AB14-6329085AAC2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EA81A-CB70-4573-85FC-8FC398D6AE9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8FCB86-F790-4558-ABAB-8CC1D6FEE2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8257B-0771-4099-A9C0-C19826F706D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9E560-F980-4B0F-9805-BE8A07F0C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711000" y="245880"/>
            <a:ext cx="7716600" cy="26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61448-B7CF-489D-B6AC-58AC480E0F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AA4A7-6BB7-4891-BD3D-1215824B7CE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67EC4-5B0C-46F7-A77B-6A9579DAAD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32DE2-6D24-42D9-9D9D-4DE8DA7CFCC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3360" y="3646080"/>
            <a:ext cx="764388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8E53A-7246-40F3-8CC2-B672553D337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40160" y="8884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233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340160" y="3646080"/>
            <a:ext cx="3729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FF860-003F-46AB-832C-A152327EAF2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00780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592240" y="8884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2336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00780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592240" y="3646080"/>
            <a:ext cx="246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BE455-1B41-45A9-9DAF-A79944A9C3F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FCD2-5465-431D-8639-1B40E4767DF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5BEA7-3B2C-4A89-93D0-CBF1E93D09C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AE1F4-C2CC-4DDC-9D2C-BCA35512D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" name="Text Box 11"/>
          <p:cNvSpPr/>
          <p:nvPr/>
        </p:nvSpPr>
        <p:spPr>
          <a:xfrm>
            <a:off x="242280" y="6552360"/>
            <a:ext cx="20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4" name="Picture 9" descr="知識服務_橫"/>
          <p:cNvPicPr/>
          <p:nvPr/>
        </p:nvPicPr>
        <p:blipFill>
          <a:blip r:embed="rId4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378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0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420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1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462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2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11"/>
          <p:cNvSpPr/>
          <p:nvPr/>
        </p:nvSpPr>
        <p:spPr>
          <a:xfrm>
            <a:off x="24156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504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3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546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14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588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Num" idx="15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11"/>
          <p:cNvSpPr/>
          <p:nvPr/>
        </p:nvSpPr>
        <p:spPr>
          <a:xfrm>
            <a:off x="242280" y="6552360"/>
            <a:ext cx="20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630" name="Picture 9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7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36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87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age 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23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C8C9-FC1E-482D-9576-D0A97F6A1A82}" type="slidenum">
              <a:rPr b="0" lang="zh-TW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Picture 4" descr="Temp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165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242280" y="6552360"/>
            <a:ext cx="20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84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1205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206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120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Click to edit the outline text format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con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59595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Third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our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Fif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ix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Book Antiqua"/>
              </a:rPr>
              <a:t>Seventh Outline Level</a:t>
            </a:r>
            <a:endParaRPr b="1" lang="en-US" sz="20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title"/>
          </p:nvPr>
        </p:nvSpPr>
        <p:spPr>
          <a:xfrm>
            <a:off x="2282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</a:rPr>
              <a:t>Click to edit the title text format</a:t>
            </a:r>
            <a:endParaRPr b="1" lang="en-US" sz="24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sldNum" idx="44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1"/>
          <p:cNvSpPr/>
          <p:nvPr/>
        </p:nvSpPr>
        <p:spPr>
          <a:xfrm>
            <a:off x="232560" y="6552360"/>
            <a:ext cx="205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26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4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68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5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210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252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7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294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8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3" descr="page_background"/>
          <p:cNvPicPr/>
          <p:nvPr/>
        </p:nvPicPr>
        <p:blipFill>
          <a:blip r:embed="rId2"/>
          <a:stretch/>
        </p:blipFill>
        <p:spPr>
          <a:xfrm>
            <a:off x="-25560" y="0"/>
            <a:ext cx="9168120" cy="68770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1"/>
          <p:cNvSpPr/>
          <p:nvPr/>
        </p:nvSpPr>
        <p:spPr>
          <a:xfrm>
            <a:off x="267840" y="6552360"/>
            <a:ext cx="198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JSTOR  Rep. / FlySheet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b5b178"/>
                </a:solidFill>
                <a:latin typeface="Arial"/>
              </a:rPr>
              <a:t>l </a:t>
            </a:r>
            <a:r>
              <a:rPr b="0" lang="en-US" sz="1000" spc="-1" strike="noStrike">
                <a:solidFill>
                  <a:srgbClr val="5a595f"/>
                </a:solidFill>
                <a:latin typeface="Arial"/>
              </a:rPr>
              <a:t>2012</a:t>
            </a:r>
            <a:endParaRPr b="1" lang="en-US" sz="1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336" name="Picture 10" descr="知識服務_橫"/>
          <p:cNvPicPr/>
          <p:nvPr/>
        </p:nvPicPr>
        <p:blipFill>
          <a:blip r:embed="rId3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Book Antiqua"/>
              </a:rPr>
              <a:t>Click to edit the title text format</a:t>
            </a:r>
            <a:endParaRPr b="0" lang="en-US" sz="24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3360" y="888480"/>
            <a:ext cx="7643880" cy="52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Click to edit the outline text format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con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2" marL="343080" indent="-343080">
              <a:spcBef>
                <a:spcPts val="499"/>
              </a:spcBef>
              <a:buClr>
                <a:srgbClr val="465d6b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3" marL="343080" indent="-343080">
              <a:spcBef>
                <a:spcPts val="499"/>
              </a:spcBef>
              <a:buClr>
                <a:srgbClr val="747155"/>
              </a:buClr>
              <a:buFont typeface="Book Antiqu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4" marL="343080" indent="-343080">
              <a:spcBef>
                <a:spcPts val="499"/>
              </a:spcBef>
              <a:buClr>
                <a:srgbClr val="465d6b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Book Antiqu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95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9"/>
          </p:nvPr>
        </p:nvSpPr>
        <p:spPr>
          <a:xfrm>
            <a:off x="-62280" y="6559560"/>
            <a:ext cx="48276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1.gif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1.gif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2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4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Picture 13" descr="blue_background"/>
          <p:cNvPicPr/>
          <p:nvPr/>
        </p:nvPicPr>
        <p:blipFill>
          <a:blip r:embed="rId1"/>
          <a:stretch/>
        </p:blipFill>
        <p:spPr>
          <a:xfrm>
            <a:off x="-23760" y="25560"/>
            <a:ext cx="9167760" cy="6876720"/>
          </a:xfrm>
          <a:prstGeom prst="rect">
            <a:avLst/>
          </a:prstGeom>
          <a:ln w="0">
            <a:noFill/>
          </a:ln>
        </p:spPr>
      </p:pic>
      <p:sp>
        <p:nvSpPr>
          <p:cNvPr id="1254" name="Text Box 5"/>
          <p:cNvSpPr/>
          <p:nvPr/>
        </p:nvSpPr>
        <p:spPr>
          <a:xfrm>
            <a:off x="241200" y="2117520"/>
            <a:ext cx="8250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bd7de"/>
                </a:solidFill>
                <a:latin typeface="Book Antiqua"/>
                <a:ea typeface="標楷體"/>
              </a:rPr>
              <a:t>JSTOR </a:t>
            </a:r>
            <a:r>
              <a:rPr b="1" lang="zh-TW" sz="3600" spc="-1" strike="noStrike">
                <a:solidFill>
                  <a:srgbClr val="cbd7de"/>
                </a:solidFill>
                <a:latin typeface="Book Antiqua"/>
                <a:ea typeface="標楷體"/>
              </a:rPr>
              <a:t>使用指南</a:t>
            </a:r>
            <a:endParaRPr b="1" lang="en-US" sz="3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d7de"/>
                </a:solidFill>
                <a:latin typeface="Book Antiqua"/>
                <a:ea typeface="標楷體"/>
              </a:rPr>
              <a:t>FlySheet Info-Aggregate</a:t>
            </a:r>
            <a:endParaRPr b="1" lang="en-US" sz="20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255" name="Picture 16" descr=""/>
          <p:cNvPicPr/>
          <p:nvPr/>
        </p:nvPicPr>
        <p:blipFill>
          <a:blip r:embed="rId2"/>
          <a:srcRect l="0" t="4794" r="0" b="0"/>
          <a:stretch/>
        </p:blipFill>
        <p:spPr>
          <a:xfrm>
            <a:off x="0" y="6350040"/>
            <a:ext cx="5667480" cy="50796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17" descr=""/>
          <p:cNvPicPr/>
          <p:nvPr/>
        </p:nvPicPr>
        <p:blipFill>
          <a:blip r:embed="rId3"/>
          <a:srcRect l="48183" t="2363" r="-14558" b="0"/>
          <a:stretch/>
        </p:blipFill>
        <p:spPr>
          <a:xfrm>
            <a:off x="4605480" y="6337440"/>
            <a:ext cx="3762360" cy="52056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10" descr="知識服務_橫"/>
          <p:cNvPicPr/>
          <p:nvPr/>
        </p:nvPicPr>
        <p:blipFill>
          <a:blip r:embed="rId4"/>
          <a:stretch/>
        </p:blipFill>
        <p:spPr>
          <a:xfrm>
            <a:off x="6114960" y="6434280"/>
            <a:ext cx="241308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3120" y="88560"/>
            <a:ext cx="771696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95f"/>
                </a:solidFill>
                <a:latin typeface="Book Antiqua"/>
              </a:rPr>
              <a:t>JSTOR</a:t>
            </a:r>
            <a:r>
              <a:rPr b="1" lang="zh-TW" sz="3600" spc="-1" strike="noStrike">
                <a:solidFill>
                  <a:srgbClr val="5a595f"/>
                </a:solidFill>
                <a:latin typeface="Book Antiqua"/>
              </a:rPr>
              <a:t>界面使用說明</a:t>
            </a:r>
            <a:endParaRPr b="0" lang="en-US" sz="3600" spc="-1" strike="noStrike">
              <a:solidFill>
                <a:srgbClr val="5a595f"/>
              </a:solidFill>
              <a:latin typeface="Book Antiqua"/>
            </a:endParaRPr>
          </a:p>
        </p:txBody>
      </p:sp>
      <p:pic>
        <p:nvPicPr>
          <p:cNvPr id="1281" name="Picture 8" descr=""/>
          <p:cNvPicPr/>
          <p:nvPr/>
        </p:nvPicPr>
        <p:blipFill>
          <a:blip r:embed="rId1"/>
          <a:stretch/>
        </p:blipFill>
        <p:spPr>
          <a:xfrm>
            <a:off x="55440" y="1438200"/>
            <a:ext cx="8305920" cy="412452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7"/>
          <p:cNvSpPr/>
          <p:nvPr/>
        </p:nvSpPr>
        <p:spPr>
          <a:xfrm>
            <a:off x="5372280" y="2604960"/>
            <a:ext cx="3649320" cy="24768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JSTOR </a:t>
            </a:r>
            <a:r>
              <a:rPr b="1" lang="zh-TW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新界面的重要功能說明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標楷體"/>
              </a:rPr>
              <a:t>:</a:t>
            </a:r>
            <a:endParaRPr b="1" lang="en-US" sz="1800" spc="-1" strike="noStrike">
              <a:solidFill>
                <a:srgbClr val="415663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提供更容易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, 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更方便的使用者界面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使用者可以免費檢索索摘資訊 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加強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MYJSTOR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的個人化管理功能， 新增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SAVE Search.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可以儲存個人資訊及註記的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citations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透過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MYJSTOR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加強了圖書館管理的功能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13" descr=""/>
          <p:cNvPicPr/>
          <p:nvPr/>
        </p:nvPicPr>
        <p:blipFill>
          <a:blip r:embed="rId1"/>
          <a:stretch/>
        </p:blipFill>
        <p:spPr>
          <a:xfrm>
            <a:off x="281160" y="743040"/>
            <a:ext cx="8581680" cy="611496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69640" y="131760"/>
            <a:ext cx="7716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界面使用說明：主畫面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85" name="Text Box 7"/>
          <p:cNvSpPr/>
          <p:nvPr/>
        </p:nvSpPr>
        <p:spPr>
          <a:xfrm>
            <a:off x="8143920" y="885960"/>
            <a:ext cx="1000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86" name="Text Box 21"/>
          <p:cNvSpPr/>
          <p:nvPr/>
        </p:nvSpPr>
        <p:spPr>
          <a:xfrm>
            <a:off x="92160" y="1069920"/>
            <a:ext cx="2435040" cy="34956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檢索功能列及</a:t>
            </a:r>
            <a:r>
              <a:rPr b="1" lang="en-US" sz="14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MyJSTOR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87" name="Text Box 22"/>
          <p:cNvSpPr/>
          <p:nvPr/>
        </p:nvSpPr>
        <p:spPr>
          <a:xfrm>
            <a:off x="4376880" y="2817720"/>
            <a:ext cx="1112760" cy="3859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快速檢索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88" name="Text Box 25"/>
          <p:cNvSpPr/>
          <p:nvPr/>
        </p:nvSpPr>
        <p:spPr>
          <a:xfrm>
            <a:off x="6762600" y="1471680"/>
            <a:ext cx="2368800" cy="337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登入及線上輔助功能列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312840" y="720720"/>
            <a:ext cx="2966760" cy="308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1946160" y="2489040"/>
            <a:ext cx="2691000" cy="30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91" name="Rectangle 13"/>
          <p:cNvSpPr/>
          <p:nvPr/>
        </p:nvSpPr>
        <p:spPr>
          <a:xfrm>
            <a:off x="7419960" y="884160"/>
            <a:ext cx="1401840" cy="30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-6480" y="2265480"/>
            <a:ext cx="9112320" cy="223200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17360" y="79200"/>
            <a:ext cx="77169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功能列概覽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94" name="Text Box 9"/>
          <p:cNvSpPr/>
          <p:nvPr/>
        </p:nvSpPr>
        <p:spPr>
          <a:xfrm>
            <a:off x="1844640" y="853920"/>
            <a:ext cx="1486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★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檢索功能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1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進階檢索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2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特定文獻查找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95" name="Text Box 14"/>
          <p:cNvSpPr/>
          <p:nvPr/>
        </p:nvSpPr>
        <p:spPr>
          <a:xfrm>
            <a:off x="1989000" y="5126040"/>
            <a:ext cx="13525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</a:rPr>
              <a:t>★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瀏覽功能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1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按主題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2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按出版品名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3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按出版社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96" name="Text Box 26"/>
          <p:cNvSpPr/>
          <p:nvPr/>
        </p:nvSpPr>
        <p:spPr>
          <a:xfrm>
            <a:off x="4964040" y="15840"/>
            <a:ext cx="277668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Book Antiqua"/>
              </a:rPr>
              <a:t>                      ★</a:t>
            </a: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個人化書目服務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1.Manage Account:          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876"/>
              </a:spcBef>
              <a:buClr>
                <a:srgbClr val="74715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瀏覽編輯個人書目紀錄 </a:t>
            </a:r>
            <a:r>
              <a:rPr b="1" lang="en-US" sz="1400" spc="-1" strike="noStrike">
                <a:solidFill>
                  <a:srgbClr val="747155"/>
                </a:solidFill>
                <a:latin typeface="Book Antiqua"/>
                <a:ea typeface="MS PGothic"/>
              </a:rPr>
              <a:t>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876"/>
              </a:spcBef>
              <a:buClr>
                <a:srgbClr val="74715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編輯追蹤期刊動態          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lnSpc>
                <a:spcPct val="100000"/>
              </a:lnSpc>
              <a:spcBef>
                <a:spcPts val="876"/>
              </a:spcBef>
              <a:buClr>
                <a:srgbClr val="747155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儲存查詢結果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2.Shelf: </a:t>
            </a: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儲存書目             </a:t>
            </a:r>
            <a:r>
              <a:rPr b="1" lang="en-US" sz="1400" spc="-1" strike="noStrike">
                <a:solidFill>
                  <a:srgbClr val="747155"/>
                </a:solidFill>
                <a:latin typeface="Book Antiqua"/>
                <a:ea typeface="MS PGothic"/>
              </a:rPr>
              <a:t>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3.Profile:</a:t>
            </a:r>
            <a:r>
              <a:rPr b="0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 </a:t>
            </a:r>
            <a:r>
              <a:rPr b="0" lang="zh-TW" sz="1400" spc="-1" strike="noStrike">
                <a:solidFill>
                  <a:srgbClr val="747155"/>
                </a:solidFill>
                <a:latin typeface="Book Antiqua"/>
                <a:ea typeface="標楷體"/>
              </a:rPr>
              <a:t>個人資料修改     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297" name="Picture 31" descr=""/>
          <p:cNvPicPr/>
          <p:nvPr/>
        </p:nvPicPr>
        <p:blipFill>
          <a:blip r:embed="rId2"/>
          <a:srcRect l="0" t="4817" r="0" b="0"/>
          <a:stretch/>
        </p:blipFill>
        <p:spPr>
          <a:xfrm>
            <a:off x="330120" y="1066680"/>
            <a:ext cx="1447920" cy="56196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32" descr=""/>
          <p:cNvPicPr/>
          <p:nvPr/>
        </p:nvPicPr>
        <p:blipFill>
          <a:blip r:embed="rId3"/>
          <a:stretch/>
        </p:blipFill>
        <p:spPr>
          <a:xfrm>
            <a:off x="449280" y="5130720"/>
            <a:ext cx="1387440" cy="839880"/>
          </a:xfrm>
          <a:prstGeom prst="rect">
            <a:avLst/>
          </a:prstGeom>
          <a:ln w="0">
            <a:noFill/>
          </a:ln>
        </p:spPr>
      </p:pic>
      <p:cxnSp>
        <p:nvCxnSpPr>
          <p:cNvPr id="1299" name="肘形接點 12"/>
          <p:cNvCxnSpPr/>
          <p:nvPr/>
        </p:nvCxnSpPr>
        <p:spPr>
          <a:xfrm>
            <a:off x="1701720" y="2095560"/>
            <a:ext cx="915120" cy="915120"/>
          </a:xfrm>
          <a:prstGeom prst="bentConnector3">
            <a:avLst>
              <a:gd name="adj1" fmla="val 49980"/>
            </a:avLst>
          </a:prstGeom>
          <a:ln w="0">
            <a:noFill/>
          </a:ln>
        </p:spPr>
      </p:cxnSp>
      <p:cxnSp>
        <p:nvCxnSpPr>
          <p:cNvPr id="1300" name="肘形接點 23"/>
          <p:cNvCxnSpPr/>
          <p:nvPr/>
        </p:nvCxnSpPr>
        <p:spPr>
          <a:xfrm rot="5400000">
            <a:off x="-720" y="3238560"/>
            <a:ext cx="2464560" cy="1092960"/>
          </a:xfrm>
          <a:prstGeom prst="bentConnector3">
            <a:avLst>
              <a:gd name="adj1" fmla="val 41358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301" name="肘形接點 25"/>
          <p:cNvCxnSpPr/>
          <p:nvPr/>
        </p:nvCxnSpPr>
        <p:spPr>
          <a:xfrm flipV="1" rot="16200000">
            <a:off x="563760" y="1684080"/>
            <a:ext cx="622800" cy="559080"/>
          </a:xfrm>
          <a:prstGeom prst="bentConnector3">
            <a:avLst>
              <a:gd name="adj1" fmla="val 49971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302" name="肘形接點 40"/>
          <p:cNvCxnSpPr/>
          <p:nvPr/>
        </p:nvCxnSpPr>
        <p:spPr>
          <a:xfrm flipV="1">
            <a:off x="2944440" y="1979280"/>
            <a:ext cx="672120" cy="501840"/>
          </a:xfrm>
          <a:prstGeom prst="bentConnector3">
            <a:avLst>
              <a:gd name="adj1" fmla="val 50000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303" name="Text Box 20"/>
          <p:cNvSpPr/>
          <p:nvPr/>
        </p:nvSpPr>
        <p:spPr>
          <a:xfrm>
            <a:off x="6469200" y="4830840"/>
            <a:ext cx="1684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Book Antiqua"/>
              </a:rPr>
              <a:t>★</a:t>
            </a:r>
            <a:r>
              <a:rPr b="0" lang="zh-TW" sz="1400" spc="-1" strike="noStrike">
                <a:solidFill>
                  <a:srgbClr val="415663"/>
                </a:solidFill>
                <a:latin typeface="Book Antiqua"/>
                <a:ea typeface="標楷體"/>
              </a:rPr>
              <a:t>關於</a:t>
            </a:r>
            <a:r>
              <a:rPr b="0" lang="en-US" sz="1400" spc="-1" strike="noStrike">
                <a:solidFill>
                  <a:srgbClr val="415663"/>
                </a:solidFill>
                <a:latin typeface="Book Antiqua"/>
                <a:ea typeface="標楷體"/>
              </a:rPr>
              <a:t>JSTOR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Book Antiqua"/>
                <a:ea typeface="標楷體"/>
              </a:rPr>
              <a:t>1.Publisher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Book Antiqua"/>
                <a:ea typeface="標楷體"/>
              </a:rPr>
              <a:t>2.Libraries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15663"/>
                </a:solidFill>
                <a:latin typeface="Book Antiqua"/>
                <a:ea typeface="標楷體"/>
              </a:rPr>
              <a:t>3.Collections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cxnSp>
        <p:nvCxnSpPr>
          <p:cNvPr id="1304" name="肘形接點 46"/>
          <p:cNvCxnSpPr/>
          <p:nvPr/>
        </p:nvCxnSpPr>
        <p:spPr>
          <a:xfrm rot="5400000">
            <a:off x="6720480" y="2949480"/>
            <a:ext cx="2115360" cy="1639080"/>
          </a:xfrm>
          <a:prstGeom prst="bentConnector3">
            <a:avLst>
              <a:gd name="adj1" fmla="val 49991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1305" name="Picture 17" descr=""/>
          <p:cNvPicPr/>
          <p:nvPr/>
        </p:nvPicPr>
        <p:blipFill>
          <a:blip r:embed="rId4"/>
          <a:stretch/>
        </p:blipFill>
        <p:spPr>
          <a:xfrm>
            <a:off x="3592440" y="647640"/>
            <a:ext cx="1176480" cy="1419120"/>
          </a:xfrm>
          <a:prstGeom prst="rect">
            <a:avLst/>
          </a:prstGeom>
          <a:ln w="0">
            <a:noFill/>
          </a:ln>
        </p:spPr>
      </p:pic>
      <p:sp>
        <p:nvSpPr>
          <p:cNvPr id="1306" name="Line 18"/>
          <p:cNvSpPr/>
          <p:nvPr/>
        </p:nvSpPr>
        <p:spPr>
          <a:xfrm>
            <a:off x="7431120" y="304920"/>
            <a:ext cx="0" cy="1450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07" name="Line 19"/>
          <p:cNvSpPr/>
          <p:nvPr/>
        </p:nvSpPr>
        <p:spPr>
          <a:xfrm>
            <a:off x="7153200" y="484200"/>
            <a:ext cx="20880" cy="16286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08" name="矩形 17"/>
          <p:cNvSpPr/>
          <p:nvPr/>
        </p:nvSpPr>
        <p:spPr>
          <a:xfrm>
            <a:off x="7267680" y="378000"/>
            <a:ext cx="20336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4. </a:t>
            </a:r>
            <a:r>
              <a:rPr b="1" lang="en-US" sz="1400" spc="-1" strike="noStrike">
                <a:solidFill>
                  <a:srgbClr val="747155"/>
                </a:solidFill>
                <a:latin typeface="Arial"/>
              </a:rPr>
              <a:t>Access: </a:t>
            </a:r>
            <a:r>
              <a:rPr b="0" lang="zh-TW" sz="1400" spc="-1" strike="noStrike">
                <a:solidFill>
                  <a:srgbClr val="747155"/>
                </a:solidFill>
                <a:latin typeface="Arial"/>
                <a:ea typeface="標楷體"/>
              </a:rPr>
              <a:t>進入資訊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5. </a:t>
            </a:r>
            <a:r>
              <a:rPr b="1" lang="en-US" sz="1400" spc="-1" strike="noStrike">
                <a:solidFill>
                  <a:srgbClr val="747155"/>
                </a:solidFill>
                <a:latin typeface="Arial"/>
              </a:rPr>
              <a:t>Usage Statistics :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Arial"/>
                <a:ea typeface="標楷體"/>
              </a:rPr>
              <a:t>執行各式統計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47155"/>
                </a:solidFill>
                <a:latin typeface="Arial"/>
                <a:ea typeface="標楷體"/>
              </a:rPr>
              <a:t>6.</a:t>
            </a:r>
            <a:r>
              <a:rPr b="0" lang="zh-TW" sz="1400" spc="-1" strike="noStrike">
                <a:solidFill>
                  <a:srgbClr val="747155"/>
                </a:solidFill>
                <a:latin typeface="Arial"/>
                <a:ea typeface="標楷體"/>
              </a:rPr>
              <a:t> </a:t>
            </a:r>
            <a:r>
              <a:rPr b="1" lang="en-US" sz="1400" spc="-1" strike="noStrike">
                <a:solidFill>
                  <a:srgbClr val="747155"/>
                </a:solidFill>
                <a:latin typeface="Arial"/>
              </a:rPr>
              <a:t>Administration</a:t>
            </a:r>
            <a:r>
              <a:rPr b="1" lang="zh-TW" sz="1400" spc="-1" strike="noStrike">
                <a:solidFill>
                  <a:srgbClr val="74715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747155"/>
                </a:solidFill>
                <a:latin typeface="Arial"/>
              </a:rPr>
              <a:t>: 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747155"/>
                </a:solidFill>
                <a:latin typeface="Arial"/>
                <a:ea typeface="標楷體"/>
              </a:rPr>
              <a:t>管理帳號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9" name="Picture 3" descr=""/>
          <p:cNvPicPr/>
          <p:nvPr/>
        </p:nvPicPr>
        <p:blipFill>
          <a:blip r:embed="rId1"/>
          <a:stretch/>
        </p:blipFill>
        <p:spPr>
          <a:xfrm>
            <a:off x="723960" y="895320"/>
            <a:ext cx="7416720" cy="5570640"/>
          </a:xfrm>
          <a:prstGeom prst="rect">
            <a:avLst/>
          </a:prstGeom>
          <a:ln w="0">
            <a:noFill/>
          </a:ln>
        </p:spPr>
      </p:pic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64680" y="110880"/>
            <a:ext cx="84330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界面使用說明：瀏覽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by Subject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11" name="Rectangle 10"/>
          <p:cNvSpPr/>
          <p:nvPr/>
        </p:nvSpPr>
        <p:spPr>
          <a:xfrm>
            <a:off x="4405320" y="3371760"/>
            <a:ext cx="2257560" cy="308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6272280" y="3730680"/>
            <a:ext cx="2178000" cy="58068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Trebuchet MS"/>
                <a:ea typeface="標楷體"/>
              </a:rPr>
              <a:t>在每個主題後會呈現出來收錄的期刊數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3" name="Rectangle 15"/>
          <p:cNvSpPr/>
          <p:nvPr/>
        </p:nvSpPr>
        <p:spPr>
          <a:xfrm>
            <a:off x="723960" y="1747800"/>
            <a:ext cx="1487520" cy="30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4" name="Text Box 17"/>
          <p:cNvSpPr/>
          <p:nvPr/>
        </p:nvSpPr>
        <p:spPr>
          <a:xfrm>
            <a:off x="2341440" y="1689120"/>
            <a:ext cx="149400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主題清單列表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Picture 10" descr=""/>
          <p:cNvPicPr/>
          <p:nvPr/>
        </p:nvPicPr>
        <p:blipFill>
          <a:blip r:embed="rId1"/>
          <a:stretch/>
        </p:blipFill>
        <p:spPr>
          <a:xfrm>
            <a:off x="731880" y="942840"/>
            <a:ext cx="7427880" cy="498636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12"/>
          <p:cNvSpPr/>
          <p:nvPr/>
        </p:nvSpPr>
        <p:spPr>
          <a:xfrm>
            <a:off x="766800" y="2052720"/>
            <a:ext cx="495288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7" name="Text Box 13"/>
          <p:cNvSpPr/>
          <p:nvPr/>
        </p:nvSpPr>
        <p:spPr>
          <a:xfrm>
            <a:off x="3355920" y="1711440"/>
            <a:ext cx="322740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出版品清單列表</a:t>
            </a:r>
            <a:r>
              <a:rPr b="0" lang="en-US" sz="1600" spc="-1" strike="noStrike">
                <a:solidFill>
                  <a:srgbClr val="415663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依字母順序排列</a:t>
            </a:r>
            <a:r>
              <a:rPr b="0" lang="en-US" sz="1600" spc="-1" strike="noStrike">
                <a:solidFill>
                  <a:srgbClr val="415663"/>
                </a:solidFill>
                <a:latin typeface="Arial"/>
                <a:ea typeface="標楷體"/>
              </a:rPr>
              <a:t>)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8" name="Text Box 16"/>
          <p:cNvSpPr/>
          <p:nvPr/>
        </p:nvSpPr>
        <p:spPr>
          <a:xfrm>
            <a:off x="2409840" y="3645000"/>
            <a:ext cx="1596960" cy="58068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Trebuchet MS"/>
                <a:ea typeface="標楷體"/>
              </a:rPr>
              <a:t>提供連結到該出版品之資訊與內容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19" name="Text Box 16"/>
          <p:cNvSpPr/>
          <p:nvPr/>
        </p:nvSpPr>
        <p:spPr>
          <a:xfrm>
            <a:off x="5108400" y="3490920"/>
            <a:ext cx="1257480" cy="58068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15663"/>
                </a:solidFill>
                <a:latin typeface="Trebuchet MS"/>
                <a:ea typeface="標楷體"/>
              </a:rPr>
              <a:t>JSTOR</a:t>
            </a:r>
            <a:r>
              <a:rPr b="0" lang="zh-TW" sz="1600" spc="-1" strike="noStrike">
                <a:solidFill>
                  <a:srgbClr val="415663"/>
                </a:solidFill>
                <a:latin typeface="Trebuchet MS"/>
                <a:ea typeface="標楷體"/>
              </a:rPr>
              <a:t>中收錄全文的範圍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0" name="Rectangle 12"/>
          <p:cNvSpPr/>
          <p:nvPr/>
        </p:nvSpPr>
        <p:spPr>
          <a:xfrm>
            <a:off x="4584600" y="3618000"/>
            <a:ext cx="417600" cy="1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1" name="Rectangle 12"/>
          <p:cNvSpPr/>
          <p:nvPr/>
        </p:nvSpPr>
        <p:spPr>
          <a:xfrm>
            <a:off x="1320840" y="3546360"/>
            <a:ext cx="75564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2" name="Rectangle 2"/>
          <p:cNvSpPr/>
          <p:nvPr/>
        </p:nvSpPr>
        <p:spPr>
          <a:xfrm>
            <a:off x="401760" y="90360"/>
            <a:ext cx="8432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標楷體"/>
                <a:ea typeface="標楷體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標楷體"/>
                <a:ea typeface="標楷體"/>
              </a:rPr>
              <a:t>界面使用說明：瀏覽</a:t>
            </a:r>
            <a:r>
              <a:rPr b="1" lang="en-US" sz="3200" spc="-1" strike="noStrike">
                <a:solidFill>
                  <a:srgbClr val="5a595f"/>
                </a:solidFill>
                <a:latin typeface="標楷體"/>
                <a:ea typeface="標楷體"/>
              </a:rPr>
              <a:t>by Title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3" name="矩形 11"/>
          <p:cNvSpPr/>
          <p:nvPr/>
        </p:nvSpPr>
        <p:spPr>
          <a:xfrm>
            <a:off x="606600" y="2363760"/>
            <a:ext cx="3882960" cy="344520"/>
          </a:xfrm>
          <a:prstGeom prst="rect">
            <a:avLst/>
          </a:pr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4" name="Text Box 13"/>
          <p:cNvSpPr/>
          <p:nvPr/>
        </p:nvSpPr>
        <p:spPr>
          <a:xfrm>
            <a:off x="4233960" y="2637000"/>
            <a:ext cx="275436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標楷體"/>
              </a:rPr>
              <a:t>New feature!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全部內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| 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期刊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| 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電子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標楷體"/>
              </a:rPr>
              <a:t>| 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簡冊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5" name="Picture 11" descr=""/>
          <p:cNvPicPr/>
          <p:nvPr/>
        </p:nvPicPr>
        <p:blipFill>
          <a:blip r:embed="rId1"/>
          <a:stretch/>
        </p:blipFill>
        <p:spPr>
          <a:xfrm>
            <a:off x="785880" y="979560"/>
            <a:ext cx="7388280" cy="494964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17"/>
          <p:cNvSpPr/>
          <p:nvPr/>
        </p:nvSpPr>
        <p:spPr>
          <a:xfrm>
            <a:off x="2762280" y="1765440"/>
            <a:ext cx="227952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依出版社字母順序排序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7" name="Text Box 18"/>
          <p:cNvSpPr/>
          <p:nvPr/>
        </p:nvSpPr>
        <p:spPr>
          <a:xfrm>
            <a:off x="3471840" y="4584600"/>
            <a:ext cx="201600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點選出版品即進入出版品瀏覽頁面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8" name="Text Box 18"/>
          <p:cNvSpPr/>
          <p:nvPr/>
        </p:nvSpPr>
        <p:spPr>
          <a:xfrm>
            <a:off x="2778120" y="2776680"/>
            <a:ext cx="201456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點選出版社名稱連至出版社資訊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29" name="Rectangle 12"/>
          <p:cNvSpPr/>
          <p:nvPr/>
        </p:nvSpPr>
        <p:spPr>
          <a:xfrm>
            <a:off x="803160" y="2122560"/>
            <a:ext cx="499104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0" name="Rectangle 12"/>
          <p:cNvSpPr/>
          <p:nvPr/>
        </p:nvSpPr>
        <p:spPr>
          <a:xfrm>
            <a:off x="803160" y="2889360"/>
            <a:ext cx="197496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1" name="Rectangle 12"/>
          <p:cNvSpPr/>
          <p:nvPr/>
        </p:nvSpPr>
        <p:spPr>
          <a:xfrm>
            <a:off x="1295280" y="4678200"/>
            <a:ext cx="2003400" cy="333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2" name="Rectangle 2"/>
          <p:cNvSpPr/>
          <p:nvPr/>
        </p:nvSpPr>
        <p:spPr>
          <a:xfrm>
            <a:off x="561960" y="73080"/>
            <a:ext cx="8645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：瀏覽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by Publisher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Picture 2" descr=""/>
          <p:cNvPicPr/>
          <p:nvPr/>
        </p:nvPicPr>
        <p:blipFill>
          <a:blip r:embed="rId1"/>
          <a:stretch/>
        </p:blipFill>
        <p:spPr>
          <a:xfrm>
            <a:off x="201600" y="866880"/>
            <a:ext cx="8142480" cy="404496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54160" y="87120"/>
            <a:ext cx="84787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出版社資訊連結 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Publisher Information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35" name="Text Box 6"/>
          <p:cNvSpPr/>
          <p:nvPr/>
        </p:nvSpPr>
        <p:spPr>
          <a:xfrm>
            <a:off x="6395400" y="47804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Times New Roman"/>
                <a:ea typeface="標楷體"/>
              </a:rPr>
              <a:t>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6" name="Text Box 16"/>
          <p:cNvSpPr/>
          <p:nvPr/>
        </p:nvSpPr>
        <p:spPr>
          <a:xfrm>
            <a:off x="798480" y="1206360"/>
            <a:ext cx="182736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出版社名稱與網站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7" name="Text Box 18"/>
          <p:cNvSpPr/>
          <p:nvPr/>
        </p:nvSpPr>
        <p:spPr>
          <a:xfrm>
            <a:off x="4527720" y="1574640"/>
            <a:ext cx="122076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出版社簡介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8" name="Text Box 19"/>
          <p:cNvSpPr/>
          <p:nvPr/>
        </p:nvSpPr>
        <p:spPr>
          <a:xfrm>
            <a:off x="1335240" y="5240160"/>
            <a:ext cx="306684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出版社收錄在</a:t>
            </a:r>
            <a:r>
              <a:rPr b="0" lang="en-US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JSTOR</a:t>
            </a: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裡的出版品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39" name="Rectangle 10"/>
          <p:cNvSpPr/>
          <p:nvPr/>
        </p:nvSpPr>
        <p:spPr>
          <a:xfrm>
            <a:off x="277920" y="1574640"/>
            <a:ext cx="1896840" cy="3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0" name="Text Box 18"/>
          <p:cNvSpPr/>
          <p:nvPr/>
        </p:nvSpPr>
        <p:spPr>
          <a:xfrm>
            <a:off x="6648480" y="2576520"/>
            <a:ext cx="169560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Arial"/>
                <a:ea typeface="標楷體"/>
              </a:rPr>
              <a:t>出版社聯絡資訊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1" name="Rectangle 14"/>
          <p:cNvSpPr/>
          <p:nvPr/>
        </p:nvSpPr>
        <p:spPr>
          <a:xfrm>
            <a:off x="277920" y="2000160"/>
            <a:ext cx="6099120" cy="588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2" name="Rectangle 15"/>
          <p:cNvSpPr/>
          <p:nvPr/>
        </p:nvSpPr>
        <p:spPr>
          <a:xfrm>
            <a:off x="297000" y="2744640"/>
            <a:ext cx="6080040" cy="2266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3" name="Rectangle 16"/>
          <p:cNvSpPr/>
          <p:nvPr/>
        </p:nvSpPr>
        <p:spPr>
          <a:xfrm>
            <a:off x="6519960" y="1771560"/>
            <a:ext cx="1824120" cy="709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Picture 24" descr=""/>
          <p:cNvPicPr/>
          <p:nvPr/>
        </p:nvPicPr>
        <p:blipFill>
          <a:blip r:embed="rId1"/>
          <a:stretch/>
        </p:blipFill>
        <p:spPr>
          <a:xfrm>
            <a:off x="520560" y="1325520"/>
            <a:ext cx="7493040" cy="4444920"/>
          </a:xfrm>
          <a:prstGeom prst="rect">
            <a:avLst/>
          </a:prstGeom>
          <a:ln w="0">
            <a:noFill/>
          </a:ln>
        </p:spPr>
      </p:pic>
      <p:sp>
        <p:nvSpPr>
          <p:cNvPr id="1345" name="Text Box 18"/>
          <p:cNvSpPr/>
          <p:nvPr/>
        </p:nvSpPr>
        <p:spPr>
          <a:xfrm>
            <a:off x="3613320" y="2778120"/>
            <a:ext cx="2192040" cy="36144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檢索</a:t>
            </a:r>
            <a:r>
              <a:rPr b="0" lang="en-US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JSTOR</a:t>
            </a: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全文內容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727200" y="2149560"/>
            <a:ext cx="6029280" cy="511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47" name="Rectangle 2"/>
          <p:cNvSpPr/>
          <p:nvPr/>
        </p:nvSpPr>
        <p:spPr>
          <a:xfrm>
            <a:off x="450720" y="100080"/>
            <a:ext cx="864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：基本檢索 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Search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Picture 20" descr=""/>
          <p:cNvPicPr/>
          <p:nvPr/>
        </p:nvPicPr>
        <p:blipFill>
          <a:blip r:embed="rId1"/>
          <a:stretch/>
        </p:blipFill>
        <p:spPr>
          <a:xfrm>
            <a:off x="206280" y="1068480"/>
            <a:ext cx="8718480" cy="5705280"/>
          </a:xfrm>
          <a:prstGeom prst="rect">
            <a:avLst/>
          </a:prstGeom>
          <a:ln w="0">
            <a:noFill/>
          </a:ln>
        </p:spPr>
      </p:pic>
      <p:sp>
        <p:nvSpPr>
          <p:cNvPr id="1349" name="Text Box 19"/>
          <p:cNvSpPr/>
          <p:nvPr/>
        </p:nvSpPr>
        <p:spPr>
          <a:xfrm>
            <a:off x="3589200" y="1515960"/>
            <a:ext cx="140364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多個檢索欄位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50" name="Text Box 21"/>
          <p:cNvSpPr/>
          <p:nvPr/>
        </p:nvSpPr>
        <p:spPr>
          <a:xfrm>
            <a:off x="1144440" y="3435480"/>
            <a:ext cx="130680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提供限制條件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51" name="Text Box 22"/>
          <p:cNvSpPr/>
          <p:nvPr/>
        </p:nvSpPr>
        <p:spPr>
          <a:xfrm>
            <a:off x="3521160" y="4451400"/>
            <a:ext cx="153972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輸入出版品名稱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52" name="Text Box 23"/>
          <p:cNvSpPr/>
          <p:nvPr/>
        </p:nvSpPr>
        <p:spPr>
          <a:xfrm>
            <a:off x="3182760" y="5335560"/>
            <a:ext cx="154008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限定主題或期刊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353" name="Picture 25" descr=""/>
          <p:cNvPicPr/>
          <p:nvPr/>
        </p:nvPicPr>
        <p:blipFill>
          <a:blip r:embed="rId2"/>
          <a:stretch/>
        </p:blipFill>
        <p:spPr>
          <a:xfrm>
            <a:off x="5456160" y="1722600"/>
            <a:ext cx="847800" cy="74268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26" descr=""/>
          <p:cNvPicPr/>
          <p:nvPr/>
        </p:nvPicPr>
        <p:blipFill>
          <a:blip r:embed="rId3"/>
          <a:stretch/>
        </p:blipFill>
        <p:spPr>
          <a:xfrm>
            <a:off x="2408400" y="1768320"/>
            <a:ext cx="674640" cy="696960"/>
          </a:xfrm>
          <a:prstGeom prst="rect">
            <a:avLst/>
          </a:prstGeom>
          <a:ln w="0">
            <a:noFill/>
          </a:ln>
        </p:spPr>
      </p:pic>
      <p:cxnSp>
        <p:nvCxnSpPr>
          <p:cNvPr id="1355" name="肘形接點 24"/>
          <p:cNvCxnSpPr/>
          <p:nvPr/>
        </p:nvCxnSpPr>
        <p:spPr>
          <a:xfrm>
            <a:off x="5029200" y="1949040"/>
            <a:ext cx="389520" cy="204120"/>
          </a:xfrm>
          <a:prstGeom prst="bentConnector3">
            <a:avLst>
              <a:gd name="adj1" fmla="val 49953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356" name="肘形接點 34"/>
          <p:cNvCxnSpPr/>
          <p:nvPr/>
        </p:nvCxnSpPr>
        <p:spPr>
          <a:xfrm flipV="1">
            <a:off x="1006560" y="2316960"/>
            <a:ext cx="1402560" cy="75240"/>
          </a:xfrm>
          <a:prstGeom prst="bentConnector3">
            <a:avLst>
              <a:gd name="adj1" fmla="val 49935"/>
            </a:avLst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357" name="Text Box 19"/>
          <p:cNvSpPr/>
          <p:nvPr/>
        </p:nvSpPr>
        <p:spPr>
          <a:xfrm>
            <a:off x="1006560" y="1949400"/>
            <a:ext cx="1123920" cy="27648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415663"/>
                </a:solidFill>
                <a:latin typeface="Arial"/>
                <a:ea typeface="標楷體"/>
              </a:rPr>
              <a:t>新增檢索欄位</a:t>
            </a:r>
            <a:endParaRPr b="1" lang="en-US" sz="1200" spc="-1" strike="noStrike">
              <a:solidFill>
                <a:srgbClr val="415663"/>
              </a:solidFill>
              <a:latin typeface="Arial"/>
            </a:endParaRPr>
          </a:p>
        </p:txBody>
      </p:sp>
      <p:grpSp>
        <p:nvGrpSpPr>
          <p:cNvPr id="1358" name="Group 21"/>
          <p:cNvGrpSpPr/>
          <p:nvPr/>
        </p:nvGrpSpPr>
        <p:grpSpPr>
          <a:xfrm>
            <a:off x="2130480" y="2554200"/>
            <a:ext cx="3742920" cy="785160"/>
            <a:chOff x="2130480" y="2554200"/>
            <a:chExt cx="3742920" cy="785160"/>
          </a:xfrm>
        </p:grpSpPr>
        <p:sp>
          <p:nvSpPr>
            <p:cNvPr id="1359" name="Text Box 19"/>
            <p:cNvSpPr/>
            <p:nvPr/>
          </p:nvSpPr>
          <p:spPr>
            <a:xfrm>
              <a:off x="2934000" y="2554200"/>
              <a:ext cx="2939400" cy="58068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*</a:t>
              </a: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僅檢索我可以取得全文的部份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*</a:t>
              </a: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包含連結外部的全文部份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60" name="Line 17"/>
            <p:cNvSpPr/>
            <p:nvPr/>
          </p:nvSpPr>
          <p:spPr>
            <a:xfrm>
              <a:off x="2136600" y="2832840"/>
              <a:ext cx="71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61" name="Line 18"/>
            <p:cNvSpPr/>
            <p:nvPr/>
          </p:nvSpPr>
          <p:spPr>
            <a:xfrm>
              <a:off x="2130480" y="3339360"/>
              <a:ext cx="71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</p:grpSp>
      <p:sp>
        <p:nvSpPr>
          <p:cNvPr id="1362" name="Rectangle 16"/>
          <p:cNvSpPr/>
          <p:nvPr/>
        </p:nvSpPr>
        <p:spPr>
          <a:xfrm>
            <a:off x="1393920" y="1589040"/>
            <a:ext cx="1398600" cy="17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63" name="Rectangle 2"/>
          <p:cNvSpPr/>
          <p:nvPr/>
        </p:nvSpPr>
        <p:spPr>
          <a:xfrm>
            <a:off x="434880" y="36360"/>
            <a:ext cx="864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：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進階檢索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Advanced Search</a:t>
            </a: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Picture 30" descr=""/>
          <p:cNvPicPr/>
          <p:nvPr/>
        </p:nvPicPr>
        <p:blipFill>
          <a:blip r:embed="rId1"/>
          <a:stretch/>
        </p:blipFill>
        <p:spPr>
          <a:xfrm>
            <a:off x="36360" y="1103400"/>
            <a:ext cx="9107640" cy="4681440"/>
          </a:xfrm>
          <a:prstGeom prst="rect">
            <a:avLst/>
          </a:prstGeom>
          <a:ln w="0">
            <a:noFill/>
          </a:ln>
        </p:spPr>
      </p:pic>
      <p:sp>
        <p:nvSpPr>
          <p:cNvPr id="1365" name="Text Box 7"/>
          <p:cNvSpPr/>
          <p:nvPr/>
        </p:nvSpPr>
        <p:spPr>
          <a:xfrm>
            <a:off x="1263600" y="1596960"/>
            <a:ext cx="2832120" cy="36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922640"/>
                </a:solidFill>
                <a:latin typeface="Arial"/>
                <a:ea typeface="標楷體"/>
              </a:rPr>
              <a:t>**</a:t>
            </a:r>
            <a:r>
              <a:rPr b="0" lang="zh-TW" sz="1600" spc="-1" strike="noStrike">
                <a:solidFill>
                  <a:srgbClr val="922640"/>
                </a:solidFill>
                <a:latin typeface="Arial"/>
                <a:ea typeface="標楷體"/>
              </a:rPr>
              <a:t>將已知的文章資訊輸入即可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66" name="Rectangle 16"/>
          <p:cNvSpPr/>
          <p:nvPr/>
        </p:nvSpPr>
        <p:spPr>
          <a:xfrm>
            <a:off x="36360" y="1614600"/>
            <a:ext cx="1227240" cy="342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67" name="Text Box 26"/>
          <p:cNvSpPr/>
          <p:nvPr/>
        </p:nvSpPr>
        <p:spPr>
          <a:xfrm>
            <a:off x="5734080" y="2622600"/>
            <a:ext cx="53964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作者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68" name="Text Box 27"/>
          <p:cNvSpPr/>
          <p:nvPr/>
        </p:nvSpPr>
        <p:spPr>
          <a:xfrm>
            <a:off x="5722920" y="3274920"/>
            <a:ext cx="107316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選擇要查詢的期刊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69" name="Text Box 28"/>
          <p:cNvSpPr/>
          <p:nvPr/>
        </p:nvSpPr>
        <p:spPr>
          <a:xfrm>
            <a:off x="5540400" y="2060640"/>
            <a:ext cx="104760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Arial"/>
                <a:ea typeface="標楷體"/>
              </a:rPr>
              <a:t>文獻標題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70" name="Text Box 29"/>
          <p:cNvSpPr/>
          <p:nvPr/>
        </p:nvSpPr>
        <p:spPr>
          <a:xfrm>
            <a:off x="1692360" y="4248000"/>
            <a:ext cx="286380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出版資訊</a:t>
            </a: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-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期刊</a:t>
            </a: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ISSN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卷期</a:t>
            </a:r>
            <a:r>
              <a:rPr b="0" lang="en-US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.</a:t>
            </a: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出版年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71" name="Rectangle 2"/>
          <p:cNvSpPr/>
          <p:nvPr/>
        </p:nvSpPr>
        <p:spPr>
          <a:xfrm>
            <a:off x="404640" y="36360"/>
            <a:ext cx="864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：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特定文獻查找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Citation Locator</a:t>
            </a: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722160" y="150480"/>
            <a:ext cx="771696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5a595f"/>
                </a:solidFill>
                <a:latin typeface="Book Antiqua"/>
              </a:rPr>
              <a:t>內容：</a:t>
            </a:r>
            <a:endParaRPr b="0" lang="en-US" sz="36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062000" y="1240920"/>
            <a:ext cx="69516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認識</a:t>
            </a: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MYJSTOR</a:t>
            </a: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功能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79440" y="126720"/>
            <a:ext cx="771696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檢索結果列表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1: 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文獻列表 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/ Items Results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373" name="Text Box 4"/>
          <p:cNvSpPr/>
          <p:nvPr/>
        </p:nvSpPr>
        <p:spPr>
          <a:xfrm>
            <a:off x="7962840" y="952560"/>
            <a:ext cx="102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374" name="矩形 20"/>
          <p:cNvSpPr/>
          <p:nvPr/>
        </p:nvSpPr>
        <p:spPr>
          <a:xfrm>
            <a:off x="6832440" y="1803240"/>
            <a:ext cx="19465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grpSp>
        <p:nvGrpSpPr>
          <p:cNvPr id="1375" name="群組 24"/>
          <p:cNvGrpSpPr/>
          <p:nvPr/>
        </p:nvGrpSpPr>
        <p:grpSpPr>
          <a:xfrm>
            <a:off x="-12600" y="790560"/>
            <a:ext cx="8372520" cy="6067440"/>
            <a:chOff x="-12600" y="790560"/>
            <a:chExt cx="8372520" cy="6067440"/>
          </a:xfrm>
        </p:grpSpPr>
        <p:pic>
          <p:nvPicPr>
            <p:cNvPr id="1376" name="Picture 21" descr=""/>
            <p:cNvPicPr/>
            <p:nvPr/>
          </p:nvPicPr>
          <p:blipFill>
            <a:blip r:embed="rId1"/>
            <a:stretch/>
          </p:blipFill>
          <p:spPr>
            <a:xfrm>
              <a:off x="-12600" y="790560"/>
              <a:ext cx="8372520" cy="60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AutoShape 24"/>
            <p:cNvSpPr/>
            <p:nvPr/>
          </p:nvSpPr>
          <p:spPr>
            <a:xfrm>
              <a:off x="3772080" y="5673960"/>
              <a:ext cx="914040" cy="914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88" y="-1800"/>
                  </a:moveTo>
                  <a:lnTo>
                    <a:pt x="18900" y="-18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78" name="AutoShape 25"/>
            <p:cNvSpPr/>
            <p:nvPr/>
          </p:nvSpPr>
          <p:spPr>
            <a:xfrm>
              <a:off x="4600800" y="4992840"/>
              <a:ext cx="1596600" cy="609480"/>
            </a:xfrm>
            <a:prstGeom prst="borderCallout1">
              <a:avLst>
                <a:gd name="adj1" fmla="val 18750"/>
                <a:gd name="adj2" fmla="val -8333"/>
                <a:gd name="adj3" fmla="val 104689"/>
                <a:gd name="adj4" fmla="val -4741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79" name="AutoShape 30"/>
            <p:cNvSpPr/>
            <p:nvPr/>
          </p:nvSpPr>
          <p:spPr>
            <a:xfrm>
              <a:off x="885960" y="5743800"/>
              <a:ext cx="91404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0138"/>
                <a:gd name="adj5" fmla="val -3125"/>
                <a:gd name="adj6" fmla="val -3229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0" name="Text Box 35"/>
            <p:cNvSpPr/>
            <p:nvPr/>
          </p:nvSpPr>
          <p:spPr>
            <a:xfrm>
              <a:off x="1146600" y="1828800"/>
              <a:ext cx="1649160" cy="337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檢索結果筆數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1" name="Text Box 38"/>
            <p:cNvSpPr/>
            <p:nvPr/>
          </p:nvSpPr>
          <p:spPr>
            <a:xfrm>
              <a:off x="360" y="3316680"/>
              <a:ext cx="3657240" cy="337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所有結果 │ 我能閱讀全文的檢索結果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2" name="Text Box 39"/>
            <p:cNvSpPr/>
            <p:nvPr/>
          </p:nvSpPr>
          <p:spPr>
            <a:xfrm>
              <a:off x="1657440" y="3687840"/>
              <a:ext cx="3171600" cy="29448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儲存書目 </a:t>
              </a:r>
              <a:r>
                <a:rPr b="0" lang="en-US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| EMAIL</a:t>
              </a:r>
              <a:r>
                <a:rPr b="0" lang="zh-TW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書目 </a:t>
              </a:r>
              <a:r>
                <a:rPr b="0" lang="en-US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| </a:t>
              </a:r>
              <a:r>
                <a:rPr b="0" lang="zh-TW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輸出書目</a:t>
              </a:r>
              <a:r>
                <a:rPr b="0" lang="en-US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| </a:t>
              </a:r>
              <a:r>
                <a:rPr b="0" lang="zh-TW" sz="12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追蹤書附</a:t>
              </a:r>
              <a:endParaRPr b="1" lang="en-US" sz="12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3" name="Text Box 18"/>
            <p:cNvSpPr/>
            <p:nvPr/>
          </p:nvSpPr>
          <p:spPr>
            <a:xfrm>
              <a:off x="3666960" y="2739960"/>
              <a:ext cx="2014920" cy="337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Trebuchet MS"/>
                  <a:ea typeface="標楷體"/>
                </a:rPr>
                <a:t>修正檢索策略、字詞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4" name="Rectangle 16"/>
            <p:cNvSpPr/>
            <p:nvPr/>
          </p:nvSpPr>
          <p:spPr>
            <a:xfrm>
              <a:off x="78840" y="1815840"/>
              <a:ext cx="1020600" cy="307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5" name="Rectangle 17"/>
            <p:cNvSpPr/>
            <p:nvPr/>
          </p:nvSpPr>
          <p:spPr>
            <a:xfrm>
              <a:off x="360" y="3050640"/>
              <a:ext cx="1528200" cy="307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6" name="Rectangle 18"/>
            <p:cNvSpPr/>
            <p:nvPr/>
          </p:nvSpPr>
          <p:spPr>
            <a:xfrm>
              <a:off x="3474360" y="2408040"/>
              <a:ext cx="1463400" cy="307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7" name="Text Box 39"/>
            <p:cNvSpPr/>
            <p:nvPr/>
          </p:nvSpPr>
          <p:spPr>
            <a:xfrm>
              <a:off x="225720" y="5402880"/>
              <a:ext cx="2190600" cy="36144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5a595f"/>
                  </a:solidFill>
                  <a:latin typeface="微軟正黑體"/>
                  <a:ea typeface="微軟正黑體"/>
                </a:rPr>
                <a:t>直接閱讀 </a:t>
              </a:r>
              <a:r>
                <a:rPr b="0" lang="en-US" sz="1600" spc="-1" strike="noStrike">
                  <a:solidFill>
                    <a:srgbClr val="5a595f"/>
                  </a:solidFill>
                  <a:latin typeface="微軟正黑體"/>
                  <a:ea typeface="微軟正黑體"/>
                </a:rPr>
                <a:t>| </a:t>
              </a:r>
              <a:r>
                <a:rPr b="0" lang="zh-TW" sz="1600" spc="-1" strike="noStrike">
                  <a:solidFill>
                    <a:srgbClr val="5a595f"/>
                  </a:solidFill>
                  <a:latin typeface="微軟正黑體"/>
                  <a:ea typeface="微軟正黑體"/>
                </a:rPr>
                <a:t>下載</a:t>
              </a:r>
              <a:r>
                <a:rPr b="0" lang="en-US" sz="1600" spc="-1" strike="noStrike">
                  <a:solidFill>
                    <a:srgbClr val="5a595f"/>
                  </a:solidFill>
                  <a:latin typeface="微軟正黑體"/>
                  <a:ea typeface="微軟正黑體"/>
                </a:rPr>
                <a:t>PDF |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8" name="Text Box 36"/>
            <p:cNvSpPr/>
            <p:nvPr/>
          </p:nvSpPr>
          <p:spPr>
            <a:xfrm>
              <a:off x="1106280" y="2454480"/>
              <a:ext cx="931680" cy="30708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415663"/>
                  </a:solidFill>
                  <a:latin typeface="Trebuchet MS"/>
                  <a:ea typeface="標楷體"/>
                </a:rPr>
                <a:t>二次檢索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89" name="Line 22"/>
            <p:cNvSpPr/>
            <p:nvPr/>
          </p:nvSpPr>
          <p:spPr>
            <a:xfrm>
              <a:off x="2181600" y="2769120"/>
              <a:ext cx="3709440" cy="114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0" name="Text Box 18"/>
            <p:cNvSpPr/>
            <p:nvPr/>
          </p:nvSpPr>
          <p:spPr>
            <a:xfrm>
              <a:off x="5919120" y="3766320"/>
              <a:ext cx="2296800" cy="58068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點選</a:t>
              </a:r>
              <a:r>
                <a:rPr b="0" lang="en-US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”</a:t>
              </a:r>
              <a:r>
                <a:rPr b="0" lang="en-US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Books”</a:t>
              </a: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的標籤，即可看到電子書的檢索結果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1" name="Rectangle 18"/>
            <p:cNvSpPr/>
            <p:nvPr/>
          </p:nvSpPr>
          <p:spPr>
            <a:xfrm>
              <a:off x="1549800" y="2749680"/>
              <a:ext cx="618840" cy="307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2" name="矩形 23"/>
            <p:cNvSpPr/>
            <p:nvPr/>
          </p:nvSpPr>
          <p:spPr>
            <a:xfrm>
              <a:off x="5799960" y="2272680"/>
              <a:ext cx="1946160" cy="1828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349200" y="88560"/>
            <a:ext cx="771696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檢索結果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: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文獻全文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HTML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呈現 </a:t>
            </a:r>
            <a:endParaRPr b="0" lang="en-US" sz="3200" spc="-1" strike="noStrike">
              <a:solidFill>
                <a:srgbClr val="5a595f"/>
              </a:solidFill>
              <a:latin typeface="Book Antiqua"/>
            </a:endParaRPr>
          </a:p>
        </p:txBody>
      </p:sp>
      <p:grpSp>
        <p:nvGrpSpPr>
          <p:cNvPr id="1394" name="群組 20"/>
          <p:cNvGrpSpPr/>
          <p:nvPr/>
        </p:nvGrpSpPr>
        <p:grpSpPr>
          <a:xfrm>
            <a:off x="0" y="777960"/>
            <a:ext cx="8391600" cy="6080040"/>
            <a:chOff x="0" y="777960"/>
            <a:chExt cx="8391600" cy="6080040"/>
          </a:xfrm>
        </p:grpSpPr>
        <p:pic>
          <p:nvPicPr>
            <p:cNvPr id="1395" name="Picture 16" descr=""/>
            <p:cNvPicPr/>
            <p:nvPr/>
          </p:nvPicPr>
          <p:blipFill>
            <a:blip r:embed="rId1"/>
            <a:stretch/>
          </p:blipFill>
          <p:spPr>
            <a:xfrm>
              <a:off x="0" y="777960"/>
              <a:ext cx="8391600" cy="60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6" name="Text Box 16"/>
            <p:cNvSpPr/>
            <p:nvPr/>
          </p:nvSpPr>
          <p:spPr>
            <a:xfrm>
              <a:off x="596880" y="4102560"/>
              <a:ext cx="952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7" name="Text Box 17"/>
            <p:cNvSpPr/>
            <p:nvPr/>
          </p:nvSpPr>
          <p:spPr>
            <a:xfrm>
              <a:off x="1066680" y="3746880"/>
              <a:ext cx="723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8" name="Text Box 31"/>
            <p:cNvSpPr/>
            <p:nvPr/>
          </p:nvSpPr>
          <p:spPr>
            <a:xfrm>
              <a:off x="3069360" y="1564200"/>
              <a:ext cx="1907280" cy="36144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回到檢索結果列表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399" name="Text Box 36"/>
            <p:cNvSpPr/>
            <p:nvPr/>
          </p:nvSpPr>
          <p:spPr>
            <a:xfrm>
              <a:off x="7118280" y="2339640"/>
              <a:ext cx="1137240" cy="3175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4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同一本書的其它章節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00" name="Text Box 37"/>
            <p:cNvSpPr/>
            <p:nvPr/>
          </p:nvSpPr>
          <p:spPr>
            <a:xfrm>
              <a:off x="1373400" y="2532240"/>
              <a:ext cx="1265040" cy="36144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415663"/>
                  </a:solidFill>
                  <a:latin typeface="微軟正黑體"/>
                  <a:ea typeface="微軟正黑體"/>
                </a:rPr>
                <a:t>下載此章節</a:t>
              </a:r>
              <a:endParaRPr b="1" lang="en-US" sz="16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01" name="Rectangle 19"/>
            <p:cNvSpPr/>
            <p:nvPr/>
          </p:nvSpPr>
          <p:spPr>
            <a:xfrm>
              <a:off x="5015520" y="1508040"/>
              <a:ext cx="1158840" cy="279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02" name="Rectangle 28"/>
            <p:cNvSpPr/>
            <p:nvPr/>
          </p:nvSpPr>
          <p:spPr>
            <a:xfrm>
              <a:off x="0" y="2546640"/>
              <a:ext cx="1280160" cy="314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03" name="圓角矩形 18"/>
            <p:cNvSpPr/>
            <p:nvPr/>
          </p:nvSpPr>
          <p:spPr>
            <a:xfrm>
              <a:off x="6309360" y="2247480"/>
              <a:ext cx="1815480" cy="4440960"/>
            </a:xfrm>
            <a:custGeom>
              <a:avLst/>
              <a:gdLst>
                <a:gd name="textAreaLeft" fmla="*/ 88560 w 1815480"/>
                <a:gd name="textAreaRight" fmla="*/ 1726920 w 1815480"/>
                <a:gd name="textAreaTop" fmla="*/ 88560 h 4440960"/>
                <a:gd name="textAreaBottom" fmla="*/ 4352400 h 4440960"/>
              </a:gdLst>
              <a:ahLst/>
              <a:rect l="textAreaLeft" t="textAreaTop" r="textAreaRight" b="textAreaBottom"/>
              <a:pathLst>
                <a:path w="21600" h="52831">
                  <a:moveTo>
                    <a:pt x="3600" y="0"/>
                  </a:moveTo>
                  <a:arcTo wR="3600" hR="3600" stAng="16200000" swAng="-5400000"/>
                  <a:lnTo>
                    <a:pt x="0" y="49231"/>
                  </a:lnTo>
                  <a:arcTo wR="3600" hR="3600" stAng="10800000" swAng="-5400000"/>
                  <a:lnTo>
                    <a:pt x="18000" y="528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04" name="圓角矩形 19"/>
            <p:cNvSpPr/>
            <p:nvPr/>
          </p:nvSpPr>
          <p:spPr>
            <a:xfrm>
              <a:off x="6217920" y="1999080"/>
              <a:ext cx="1946160" cy="18252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5" name="Picture 4" descr=""/>
          <p:cNvPicPr/>
          <p:nvPr/>
        </p:nvPicPr>
        <p:blipFill>
          <a:blip r:embed="rId1"/>
          <a:stretch/>
        </p:blipFill>
        <p:spPr>
          <a:xfrm>
            <a:off x="0" y="847800"/>
            <a:ext cx="6953400" cy="6010200"/>
          </a:xfrm>
          <a:prstGeom prst="rect">
            <a:avLst/>
          </a:prstGeom>
          <a:ln w="0">
            <a:noFill/>
          </a:ln>
        </p:spPr>
      </p:pic>
      <p:sp>
        <p:nvSpPr>
          <p:cNvPr id="1406" name="Rectangle 2"/>
          <p:cNvSpPr/>
          <p:nvPr/>
        </p:nvSpPr>
        <p:spPr>
          <a:xfrm>
            <a:off x="79200" y="87480"/>
            <a:ext cx="7716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檢索結果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: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文獻全文</a:t>
            </a: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HTML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呈現 </a:t>
            </a:r>
            <a:endParaRPr b="1" lang="en-US" sz="32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07" name="Rectangle 18"/>
          <p:cNvSpPr/>
          <p:nvPr/>
        </p:nvSpPr>
        <p:spPr>
          <a:xfrm>
            <a:off x="0" y="865080"/>
            <a:ext cx="4454640" cy="308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cxnSp>
        <p:nvCxnSpPr>
          <p:cNvPr id="1408" name="直線單箭頭接點 8"/>
          <p:cNvCxnSpPr>
            <a:stCxn id="1407" idx="3"/>
          </p:cNvCxnSpPr>
          <p:nvPr/>
        </p:nvCxnSpPr>
        <p:spPr>
          <a:xfrm flipV="1">
            <a:off x="4454640" y="1005840"/>
            <a:ext cx="40320" cy="13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09" name="直線單箭頭接點 12"/>
          <p:cNvCxnSpPr/>
          <p:nvPr/>
        </p:nvCxnSpPr>
        <p:spPr>
          <a:xfrm>
            <a:off x="4506480" y="1006560"/>
            <a:ext cx="2769480" cy="1867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410" name="直線單箭頭接點 14"/>
          <p:cNvCxnSpPr>
            <a:stCxn id="1407" idx="3"/>
          </p:cNvCxnSpPr>
          <p:nvPr/>
        </p:nvCxnSpPr>
        <p:spPr>
          <a:xfrm>
            <a:off x="4454640" y="1018800"/>
            <a:ext cx="2769120" cy="1150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1" name="文字方塊 17"/>
          <p:cNvSpPr/>
          <p:nvPr/>
        </p:nvSpPr>
        <p:spPr>
          <a:xfrm>
            <a:off x="7289640" y="2155680"/>
            <a:ext cx="1619280" cy="2284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工具列：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列印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轉方向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縮小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放大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上一頁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下一頁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移動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選取文字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12" name="矩形 18"/>
          <p:cNvSpPr/>
          <p:nvPr/>
        </p:nvSpPr>
        <p:spPr>
          <a:xfrm>
            <a:off x="5643720" y="731880"/>
            <a:ext cx="1409400" cy="482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13" name="文字方塊 19"/>
          <p:cNvSpPr/>
          <p:nvPr/>
        </p:nvSpPr>
        <p:spPr>
          <a:xfrm>
            <a:off x="7105680" y="849240"/>
            <a:ext cx="1828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在本章節中檢索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/>
          </p:nvPr>
        </p:nvSpPr>
        <p:spPr>
          <a:xfrm>
            <a:off x="1062000" y="1240920"/>
            <a:ext cx="69516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認識</a:t>
            </a: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JSTOR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JSTOR</a:t>
            </a: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界面使用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MYJSTOR</a:t>
            </a: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功能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5" name="Picture 12" descr=""/>
          <p:cNvPicPr/>
          <p:nvPr/>
        </p:nvPicPr>
        <p:blipFill>
          <a:blip r:embed="rId1"/>
          <a:stretch/>
        </p:blipFill>
        <p:spPr>
          <a:xfrm>
            <a:off x="12600" y="1224000"/>
            <a:ext cx="8793360" cy="4143240"/>
          </a:xfrm>
          <a:prstGeom prst="rect">
            <a:avLst/>
          </a:prstGeom>
          <a:ln w="0">
            <a:noFill/>
          </a:ln>
        </p:spPr>
      </p:pic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72520" y="91800"/>
            <a:ext cx="81550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MY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功能說明：個人化書目服務</a:t>
            </a:r>
            <a:br>
              <a:rPr sz="3200"/>
            </a:b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Login to MyJSTOR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17" name="Text Box 5"/>
          <p:cNvSpPr/>
          <p:nvPr/>
        </p:nvSpPr>
        <p:spPr>
          <a:xfrm>
            <a:off x="4202280" y="311148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18" name="Text Box 6"/>
          <p:cNvSpPr/>
          <p:nvPr/>
        </p:nvSpPr>
        <p:spPr>
          <a:xfrm>
            <a:off x="1076400" y="31100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19" name="Text Box 7"/>
          <p:cNvSpPr/>
          <p:nvPr/>
        </p:nvSpPr>
        <p:spPr>
          <a:xfrm>
            <a:off x="4535640" y="15588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20" name="Text Box 8"/>
          <p:cNvSpPr/>
          <p:nvPr/>
        </p:nvSpPr>
        <p:spPr>
          <a:xfrm>
            <a:off x="1401840" y="2743200"/>
            <a:ext cx="1366920" cy="3283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Trebuchet MS"/>
                <a:ea typeface="標楷體"/>
              </a:rPr>
              <a:t>登入</a:t>
            </a:r>
            <a:r>
              <a:rPr b="0" lang="en-US" sz="1400" spc="-1" strike="noStrike">
                <a:solidFill>
                  <a:srgbClr val="415663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415663"/>
                </a:solidFill>
                <a:latin typeface="Trebuchet MS"/>
              </a:rPr>
              <a:t>MyJSTOR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21" name="Text Box 10"/>
          <p:cNvSpPr/>
          <p:nvPr/>
        </p:nvSpPr>
        <p:spPr>
          <a:xfrm>
            <a:off x="184320" y="4286160"/>
            <a:ext cx="3100320" cy="30708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415663"/>
                </a:solidFill>
                <a:latin typeface="標楷體"/>
                <a:ea typeface="標楷體"/>
              </a:rPr>
              <a:t>**</a:t>
            </a:r>
            <a:r>
              <a:rPr b="0" lang="zh-TW" sz="1400" spc="-1" strike="noStrike">
                <a:solidFill>
                  <a:srgbClr val="415663"/>
                </a:solidFill>
                <a:latin typeface="標楷體"/>
                <a:ea typeface="標楷體"/>
              </a:rPr>
              <a:t>第一次使用者請先申請個人帳號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22" name="Rectangle 14"/>
          <p:cNvSpPr/>
          <p:nvPr/>
        </p:nvSpPr>
        <p:spPr>
          <a:xfrm>
            <a:off x="212760" y="3984480"/>
            <a:ext cx="1165320" cy="308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3" name="Picture 11" descr=""/>
          <p:cNvPicPr/>
          <p:nvPr/>
        </p:nvPicPr>
        <p:blipFill>
          <a:blip r:embed="rId1"/>
          <a:stretch/>
        </p:blipFill>
        <p:spPr>
          <a:xfrm>
            <a:off x="0" y="1211400"/>
            <a:ext cx="9144000" cy="4546440"/>
          </a:xfrm>
          <a:prstGeom prst="rect">
            <a:avLst/>
          </a:prstGeom>
          <a:ln w="0">
            <a:noFill/>
          </a:ln>
        </p:spPr>
      </p:pic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15720" y="10296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</a:rPr>
              <a:t>MY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</a:rPr>
              <a:t>功能說明：</a:t>
            </a:r>
            <a:br>
              <a:rPr sz="3200"/>
            </a:br>
            <a:r>
              <a:rPr b="0" lang="zh-TW" sz="2800" spc="-1" strike="noStrike">
                <a:solidFill>
                  <a:srgbClr val="ff0000"/>
                </a:solidFill>
                <a:latin typeface="Book Antiqua"/>
              </a:rPr>
              <a:t>註冊個人化服務帳號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: MyJSTOR Registration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25" name="Text Box 6"/>
          <p:cNvSpPr/>
          <p:nvPr/>
        </p:nvSpPr>
        <p:spPr>
          <a:xfrm>
            <a:off x="4861080" y="62247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26" name="Text Box 7"/>
          <p:cNvSpPr/>
          <p:nvPr/>
        </p:nvSpPr>
        <p:spPr>
          <a:xfrm>
            <a:off x="1862280" y="30067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27" name="Text Box 8"/>
          <p:cNvSpPr/>
          <p:nvPr/>
        </p:nvSpPr>
        <p:spPr>
          <a:xfrm>
            <a:off x="2820960" y="3959280"/>
            <a:ext cx="2095560" cy="115956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註冊個人化帳號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1.</a:t>
            </a:r>
            <a:r>
              <a:rPr b="0" lang="zh-TW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請填入個人資料</a:t>
            </a:r>
            <a:r>
              <a:rPr b="0" lang="en-US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, “ * ” </a:t>
            </a:r>
            <a:r>
              <a:rPr b="0" lang="zh-TW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為必填之欄位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2.</a:t>
            </a:r>
            <a:r>
              <a:rPr b="0" lang="zh-TW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請同意並接受</a:t>
            </a:r>
            <a:r>
              <a:rPr b="0" lang="en-US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 </a:t>
            </a:r>
            <a:r>
              <a:rPr b="0" lang="en-US" sz="1400" spc="-1" strike="noStrike">
                <a:solidFill>
                  <a:srgbClr val="5a595f"/>
                </a:solidFill>
                <a:latin typeface="微軟正黑體"/>
                <a:ea typeface="微軟正黑體"/>
              </a:rPr>
              <a:t>JSTOR Terms and Condition</a:t>
            </a: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8" name="Picture 9" descr=""/>
          <p:cNvPicPr/>
          <p:nvPr/>
        </p:nvPicPr>
        <p:blipFill>
          <a:blip r:embed="rId1"/>
          <a:stretch/>
        </p:blipFill>
        <p:spPr>
          <a:xfrm>
            <a:off x="25560" y="1217520"/>
            <a:ext cx="9118440" cy="4416480"/>
          </a:xfrm>
          <a:prstGeom prst="rect">
            <a:avLst/>
          </a:prstGeom>
          <a:ln w="0">
            <a:noFill/>
          </a:ln>
        </p:spPr>
      </p:pic>
      <p:sp>
        <p:nvSpPr>
          <p:cNvPr id="1429" name="Rectangle 13"/>
          <p:cNvSpPr/>
          <p:nvPr/>
        </p:nvSpPr>
        <p:spPr>
          <a:xfrm>
            <a:off x="0" y="3002040"/>
            <a:ext cx="2505240" cy="307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30" name="Rectangle 2"/>
          <p:cNvSpPr/>
          <p:nvPr/>
        </p:nvSpPr>
        <p:spPr>
          <a:xfrm>
            <a:off x="343080" y="103320"/>
            <a:ext cx="7716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MYJSTOR</a:t>
            </a:r>
            <a:r>
              <a:rPr b="1" lang="zh-TW" sz="3200" spc="-1" strike="noStrike">
                <a:solidFill>
                  <a:srgbClr val="5a595f"/>
                </a:solidFill>
                <a:latin typeface="Book Antiqua"/>
                <a:ea typeface="標楷體"/>
              </a:rPr>
              <a:t>功能說明：</a:t>
            </a:r>
            <a:br>
              <a:rPr sz="3200"/>
            </a:br>
            <a:r>
              <a:rPr b="0" lang="zh-TW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個人書目管理：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  <a:ea typeface="標楷體"/>
              </a:rPr>
              <a:t>Save Citations</a:t>
            </a: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</p:txBody>
      </p:sp>
      <p:grpSp>
        <p:nvGrpSpPr>
          <p:cNvPr id="1431" name="群組 12"/>
          <p:cNvGrpSpPr/>
          <p:nvPr/>
        </p:nvGrpSpPr>
        <p:grpSpPr>
          <a:xfrm>
            <a:off x="50760" y="1603440"/>
            <a:ext cx="8740800" cy="4681440"/>
            <a:chOff x="50760" y="1603440"/>
            <a:chExt cx="8740800" cy="4681440"/>
          </a:xfrm>
        </p:grpSpPr>
        <p:sp>
          <p:nvSpPr>
            <p:cNvPr id="1432" name="Text Box 7"/>
            <p:cNvSpPr/>
            <p:nvPr/>
          </p:nvSpPr>
          <p:spPr>
            <a:xfrm>
              <a:off x="3548160" y="1920600"/>
              <a:ext cx="2930400" cy="328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針對所選擇的書目可依照儲存日期及出版日期的先後排序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3" name="Text Box 8"/>
            <p:cNvSpPr/>
            <p:nvPr/>
          </p:nvSpPr>
          <p:spPr>
            <a:xfrm>
              <a:off x="5464440" y="4665600"/>
              <a:ext cx="1260360" cy="328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註明每筆書目儲存日期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4" name="Text Box 10"/>
            <p:cNvSpPr/>
            <p:nvPr/>
          </p:nvSpPr>
          <p:spPr>
            <a:xfrm>
              <a:off x="2593800" y="2973240"/>
              <a:ext cx="4515120" cy="328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輸出書目｜</a:t>
              </a:r>
              <a:r>
                <a:rPr b="0" lang="en-US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EMAIL</a:t>
              </a:r>
              <a:r>
                <a:rPr b="0" lang="zh-TW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書目｜ 追蹤書目 </a:t>
              </a:r>
              <a:r>
                <a:rPr b="0" lang="en-US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|</a:t>
              </a:r>
              <a:r>
                <a:rPr b="0" lang="zh-TW" sz="1400" spc="-1" strike="noStrike">
                  <a:solidFill>
                    <a:srgbClr val="415663"/>
                  </a:solidFill>
                  <a:latin typeface="Arial"/>
                  <a:ea typeface="標楷體"/>
                </a:rPr>
                <a:t>刪除所勾選的書目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5" name="Rectangle 10"/>
            <p:cNvSpPr/>
            <p:nvPr/>
          </p:nvSpPr>
          <p:spPr>
            <a:xfrm>
              <a:off x="6940800" y="1603440"/>
              <a:ext cx="1130040" cy="203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6" name="Rectangle 12"/>
            <p:cNvSpPr/>
            <p:nvPr/>
          </p:nvSpPr>
          <p:spPr>
            <a:xfrm>
              <a:off x="147600" y="3262320"/>
              <a:ext cx="241200" cy="30225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7" name="Text Box 9"/>
            <p:cNvSpPr/>
            <p:nvPr/>
          </p:nvSpPr>
          <p:spPr>
            <a:xfrm>
              <a:off x="50760" y="5845320"/>
              <a:ext cx="3365640" cy="328320"/>
            </a:xfrm>
            <a:prstGeom prst="rect">
              <a:avLst/>
            </a:prstGeom>
            <a:solidFill>
              <a:srgbClr val="cbd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415663"/>
                  </a:solidFill>
                  <a:latin typeface="標楷體"/>
                  <a:ea typeface="標楷體"/>
                </a:rPr>
                <a:t>勾選所需書目（或用上方全選</a:t>
              </a:r>
              <a:r>
                <a:rPr b="0" lang="en-US" sz="1400" spc="-1" strike="noStrike">
                  <a:solidFill>
                    <a:srgbClr val="415663"/>
                  </a:solidFill>
                  <a:latin typeface="標楷體"/>
                  <a:ea typeface="標楷體"/>
                </a:rPr>
                <a:t>/</a:t>
              </a:r>
              <a:r>
                <a:rPr b="0" lang="zh-TW" sz="1400" spc="-1" strike="noStrike">
                  <a:solidFill>
                    <a:srgbClr val="415663"/>
                  </a:solidFill>
                  <a:latin typeface="標楷體"/>
                  <a:ea typeface="標楷體"/>
                </a:rPr>
                <a:t>全不選）</a:t>
              </a: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  <p:sp>
          <p:nvSpPr>
            <p:cNvPr id="1438" name="圓角矩形 10"/>
            <p:cNvSpPr/>
            <p:nvPr/>
          </p:nvSpPr>
          <p:spPr>
            <a:xfrm>
              <a:off x="6597000" y="1933200"/>
              <a:ext cx="2194560" cy="27432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41566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711000" y="245880"/>
            <a:ext cx="7716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a595f"/>
                </a:solidFill>
                <a:latin typeface="Book Antiqua"/>
              </a:rPr>
              <a:t>檢索詞</a:t>
            </a:r>
            <a:r>
              <a:rPr b="1" lang="en-US" sz="2800" spc="-1" strike="noStrike">
                <a:solidFill>
                  <a:srgbClr val="5a595f"/>
                </a:solidFill>
                <a:latin typeface="Book Antiqua"/>
              </a:rPr>
              <a:t>/</a:t>
            </a:r>
            <a:r>
              <a:rPr b="1" lang="zh-TW" sz="2800" spc="-1" strike="noStrike">
                <a:solidFill>
                  <a:srgbClr val="5a595f"/>
                </a:solidFill>
                <a:latin typeface="Book Antiqua"/>
              </a:rPr>
              <a:t>檢索策略儲存</a:t>
            </a:r>
            <a:r>
              <a:rPr b="1" lang="en-US" sz="2800" spc="-1" strike="noStrike">
                <a:solidFill>
                  <a:srgbClr val="5a595f"/>
                </a:solidFill>
                <a:latin typeface="Book Antiqua"/>
              </a:rPr>
              <a:t>: Save Search 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440" name="Text Box 6"/>
          <p:cNvSpPr/>
          <p:nvPr/>
        </p:nvSpPr>
        <p:spPr>
          <a:xfrm>
            <a:off x="3026880" y="31485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a595f"/>
                </a:solidFill>
                <a:latin typeface="Times New Roman"/>
                <a:ea typeface="標楷體"/>
              </a:rPr>
              <a:t>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441" name="Picture 13" descr="2011-03-29_193656"/>
          <p:cNvPicPr/>
          <p:nvPr/>
        </p:nvPicPr>
        <p:blipFill>
          <a:blip r:embed="rId1"/>
          <a:stretch/>
        </p:blipFill>
        <p:spPr>
          <a:xfrm>
            <a:off x="631800" y="1108080"/>
            <a:ext cx="7728120" cy="2878200"/>
          </a:xfrm>
          <a:prstGeom prst="rect">
            <a:avLst/>
          </a:prstGeom>
          <a:ln w="0">
            <a:noFill/>
          </a:ln>
        </p:spPr>
      </p:pic>
      <p:sp>
        <p:nvSpPr>
          <p:cNvPr id="1442" name="Text Box 8"/>
          <p:cNvSpPr/>
          <p:nvPr/>
        </p:nvSpPr>
        <p:spPr>
          <a:xfrm>
            <a:off x="2500200" y="3887640"/>
            <a:ext cx="2070360" cy="6289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針對本次檢索策略及運用的檢索詞加以儲存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443" name="圖片 11" descr="圖片 13-1.png"/>
          <p:cNvPicPr/>
          <p:nvPr/>
        </p:nvPicPr>
        <p:blipFill>
          <a:blip r:embed="rId2"/>
          <a:stretch/>
        </p:blipFill>
        <p:spPr>
          <a:xfrm>
            <a:off x="4684680" y="3430440"/>
            <a:ext cx="3675240" cy="18957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1963800" y="5095800"/>
            <a:ext cx="2606760" cy="628920"/>
          </a:xfrm>
          <a:prstGeom prst="rect">
            <a:avLst/>
          </a:prstGeom>
          <a:solidFill>
            <a:srgbClr val="cbd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415663"/>
                </a:solidFill>
                <a:latin typeface="微軟正黑體"/>
                <a:ea typeface="微軟正黑體"/>
              </a:rPr>
              <a:t>可設定定期寄送更新資訊，以掌握最新相關訊息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445" name="圖片 12" descr="圖片 13-2.png"/>
          <p:cNvPicPr/>
          <p:nvPr/>
        </p:nvPicPr>
        <p:blipFill>
          <a:blip r:embed="rId3"/>
          <a:stretch/>
        </p:blipFill>
        <p:spPr>
          <a:xfrm>
            <a:off x="4803840" y="4805280"/>
            <a:ext cx="3038400" cy="72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46" name="圓角矩形 8"/>
          <p:cNvSpPr/>
          <p:nvPr/>
        </p:nvSpPr>
        <p:spPr>
          <a:xfrm>
            <a:off x="6205680" y="1593720"/>
            <a:ext cx="1906560" cy="247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2" descr="title_background"/>
          <p:cNvPicPr/>
          <p:nvPr/>
        </p:nvPicPr>
        <p:blipFill>
          <a:blip r:embed="rId1"/>
          <a:stretch/>
        </p:blipFill>
        <p:spPr>
          <a:xfrm>
            <a:off x="0" y="-19080"/>
            <a:ext cx="9167760" cy="6877080"/>
          </a:xfrm>
          <a:prstGeom prst="rect">
            <a:avLst/>
          </a:prstGeom>
          <a:ln w="0">
            <a:noFill/>
          </a:ln>
        </p:spPr>
      </p:pic>
      <p:sp>
        <p:nvSpPr>
          <p:cNvPr id="1448" name="Text Box 3"/>
          <p:cNvSpPr/>
          <p:nvPr/>
        </p:nvSpPr>
        <p:spPr>
          <a:xfrm>
            <a:off x="5507640" y="2433600"/>
            <a:ext cx="1963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41566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415663"/>
                </a:solidFill>
                <a:latin typeface="Arial"/>
                <a:ea typeface="標楷體"/>
              </a:rPr>
              <a:t>產品資訊及教育訓練 請洽：</a:t>
            </a:r>
            <a:endParaRPr b="1" lang="en-US" sz="18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449" name="Text Box 4"/>
          <p:cNvSpPr/>
          <p:nvPr/>
        </p:nvSpPr>
        <p:spPr>
          <a:xfrm>
            <a:off x="4965840" y="3651120"/>
            <a:ext cx="3414600" cy="24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747155"/>
                </a:solidFill>
                <a:latin typeface="標楷體"/>
                <a:ea typeface="標楷體"/>
              </a:rPr>
              <a:t>飛資得知識服務股份有限公司</a:t>
            </a:r>
            <a:endParaRPr b="1" lang="en-US" sz="18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Tel</a:t>
            </a:r>
            <a:r>
              <a:rPr b="0" lang="en-US" sz="1600" spc="-1" strike="noStrike">
                <a:solidFill>
                  <a:srgbClr val="415663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-</a:t>
            </a:r>
            <a:r>
              <a:rPr b="0" lang="en-US" sz="1600" spc="-1" strike="noStrike">
                <a:solidFill>
                  <a:srgbClr val="415663"/>
                </a:solidFill>
                <a:latin typeface="Book Antiqua"/>
              </a:rPr>
              <a:t> </a:t>
            </a: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 (02)26575996 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Fax - (02)26577071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E-mail</a:t>
            </a:r>
            <a:r>
              <a:rPr b="0" lang="en-US" sz="1600" spc="-1" strike="noStrike">
                <a:solidFill>
                  <a:srgbClr val="747155"/>
                </a:solidFill>
                <a:latin typeface="Arial"/>
              </a:rPr>
              <a:t> - </a:t>
            </a: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products@flysheet.com.tw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47155"/>
                </a:solidFill>
                <a:latin typeface="Book Antiqua"/>
              </a:rPr>
              <a:t>Website - http://econtent.flysheet.com.tw</a:t>
            </a: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450" name="圖片 5" descr="知識服務-en.gif"/>
          <p:cNvPicPr/>
          <p:nvPr/>
        </p:nvPicPr>
        <p:blipFill>
          <a:blip r:embed="rId2"/>
          <a:stretch/>
        </p:blipFill>
        <p:spPr>
          <a:xfrm>
            <a:off x="3944880" y="3675240"/>
            <a:ext cx="102564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/>
          </p:nvPr>
        </p:nvSpPr>
        <p:spPr>
          <a:xfrm>
            <a:off x="1062000" y="1240920"/>
            <a:ext cx="69516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認識</a:t>
            </a: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JSTOR</a:t>
            </a: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界面使用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MYJSTOR</a:t>
            </a: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功能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13" descr="Temp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262" name="Rectangle 7"/>
          <p:cNvSpPr/>
          <p:nvPr/>
        </p:nvSpPr>
        <p:spPr>
          <a:xfrm>
            <a:off x="762120" y="1676520"/>
            <a:ext cx="769608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ITHAKA </a:t>
            </a:r>
            <a:r>
              <a:rPr b="1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是一個非營利組織，幫助學術社群使用數位技術來保存學術成果，以可持續發展的方式促進研究和教學。</a:t>
            </a: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595959"/>
                </a:solidFill>
                <a:latin typeface="標楷體"/>
                <a:ea typeface="標楷體"/>
              </a:rPr>
              <a:t>我們提供創新的服務以助於利用這些技術並且延續持久的影響，冀能實現這個使命</a:t>
            </a:r>
            <a:r>
              <a:rPr b="1" lang="zh-TW" sz="2800" spc="-1" strike="noStrike">
                <a:solidFill>
                  <a:srgbClr val="415663"/>
                </a:solidFill>
                <a:latin typeface="標楷體"/>
                <a:ea typeface="標楷體"/>
              </a:rPr>
              <a:t>。</a:t>
            </a: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63" name="Rectangle 8"/>
          <p:cNvSpPr/>
          <p:nvPr/>
        </p:nvSpPr>
        <p:spPr>
          <a:xfrm>
            <a:off x="343080" y="228600"/>
            <a:ext cx="62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5a595f"/>
                </a:solidFill>
                <a:latin typeface="Book Antiqua"/>
                <a:ea typeface="標楷體"/>
              </a:rPr>
              <a:t>認識</a:t>
            </a:r>
            <a:r>
              <a:rPr b="1" lang="en-US" sz="36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3600" spc="-1" strike="noStrike">
                <a:solidFill>
                  <a:srgbClr val="5a595f"/>
                </a:solidFill>
                <a:latin typeface="Book Antiqua"/>
                <a:ea typeface="標楷體"/>
              </a:rPr>
              <a:t>：</a:t>
            </a:r>
            <a:r>
              <a:rPr b="1" lang="zh-TW" sz="3600" spc="-1" strike="noStrike">
                <a:solidFill>
                  <a:srgbClr val="595959"/>
                </a:solidFill>
                <a:latin typeface="標楷體"/>
                <a:ea typeface="標楷體"/>
              </a:rPr>
              <a:t>組織簡介</a:t>
            </a:r>
            <a:br>
              <a:rPr sz="3600"/>
            </a:br>
            <a:endParaRPr b="1" lang="en-US" sz="36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4" name="Picture 11" descr="Temp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5" descr="jstor_logo_small"/>
          <p:cNvPicPr/>
          <p:nvPr/>
        </p:nvPicPr>
        <p:blipFill>
          <a:blip r:embed="rId2"/>
          <a:stretch/>
        </p:blipFill>
        <p:spPr>
          <a:xfrm>
            <a:off x="990720" y="3048120"/>
            <a:ext cx="647640" cy="780840"/>
          </a:xfrm>
          <a:prstGeom prst="rect">
            <a:avLst/>
          </a:prstGeom>
          <a:ln w="0">
            <a:noFill/>
          </a:ln>
        </p:spPr>
      </p:pic>
      <p:sp>
        <p:nvSpPr>
          <p:cNvPr id="1266" name="Rectangle 6"/>
          <p:cNvSpPr/>
          <p:nvPr/>
        </p:nvSpPr>
        <p:spPr>
          <a:xfrm>
            <a:off x="2057400" y="1295280"/>
            <a:ext cx="6705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0000"/>
              </a:lnSpc>
              <a:spcBef>
                <a:spcPts val="388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Ithaka S+R</a:t>
            </a:r>
            <a:r>
              <a:rPr b="0" lang="en-US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 </a:t>
            </a:r>
            <a:r>
              <a:rPr b="0" lang="zh-TW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一項研究和諮詢服務，重點在於網路環境中學術研究和教學活動的轉型，旨在確立我們的社群所面臨的重大問題並且發揮促成變革的作用。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388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JSTOR </a:t>
            </a:r>
            <a:r>
              <a:rPr b="1" lang="zh-TW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是一個發現、存取和保存學術內容成果的研究平台。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JSTOR—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  <a:ea typeface="標楷體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ournal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Book Antiqua"/>
                <a:ea typeface="標楷體"/>
              </a:rPr>
              <a:t>Stor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標楷體"/>
              </a:rPr>
              <a:t>age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　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  <a:p>
            <a:pPr marL="345960" indent="-345960">
              <a:lnSpc>
                <a:spcPct val="100000"/>
              </a:lnSpc>
              <a:spcBef>
                <a:spcPts val="388"/>
              </a:spcBef>
              <a:buClr>
                <a:srgbClr val="595959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Portico </a:t>
            </a:r>
            <a:r>
              <a:rPr b="0" lang="zh-TW" sz="2400" spc="-1" strike="noStrike">
                <a:solidFill>
                  <a:srgbClr val="595959"/>
                </a:solidFill>
                <a:latin typeface="Book Antiqua"/>
                <a:ea typeface="標楷體"/>
              </a:rPr>
              <a:t>是一項提供電子期刊、電子書籍和其他學術性電子內容的數位內容保存服務。</a:t>
            </a:r>
            <a:endParaRPr b="1" lang="en-US" sz="2400" spc="-1" strike="noStrike">
              <a:solidFill>
                <a:srgbClr val="415663"/>
              </a:solidFill>
              <a:latin typeface="Arial"/>
            </a:endParaRPr>
          </a:p>
        </p:txBody>
      </p:sp>
      <p:sp>
        <p:nvSpPr>
          <p:cNvPr id="1267" name="Rectangle 7"/>
          <p:cNvSpPr/>
          <p:nvPr/>
        </p:nvSpPr>
        <p:spPr>
          <a:xfrm>
            <a:off x="343080" y="228600"/>
            <a:ext cx="62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595959"/>
                </a:solidFill>
                <a:latin typeface="標楷體"/>
                <a:ea typeface="標楷體"/>
              </a:rPr>
              <a:t>認識</a:t>
            </a:r>
            <a:r>
              <a:rPr b="1" lang="en-US" sz="3600" spc="-1" strike="noStrike">
                <a:solidFill>
                  <a:srgbClr val="595959"/>
                </a:solidFill>
                <a:latin typeface="Book Antiqua"/>
                <a:ea typeface="標楷體"/>
              </a:rPr>
              <a:t>JSTOR</a:t>
            </a:r>
            <a:r>
              <a:rPr b="1" lang="zh-TW" sz="3600" spc="-1" strike="noStrike">
                <a:solidFill>
                  <a:srgbClr val="595959"/>
                </a:solidFill>
                <a:latin typeface="標楷體"/>
                <a:ea typeface="標楷體"/>
              </a:rPr>
              <a:t>：服務概述</a:t>
            </a:r>
            <a:endParaRPr b="1" lang="en-US" sz="3600" spc="-1" strike="noStrike">
              <a:solidFill>
                <a:srgbClr val="415663"/>
              </a:solidFill>
              <a:latin typeface="Arial"/>
            </a:endParaRPr>
          </a:p>
        </p:txBody>
      </p:sp>
      <p:pic>
        <p:nvPicPr>
          <p:cNvPr id="1268" name="Picture 8" descr="Ithaka-S+R-final-logo_art"/>
          <p:cNvPicPr/>
          <p:nvPr/>
        </p:nvPicPr>
        <p:blipFill>
          <a:blip r:embed="rId3"/>
          <a:srcRect l="15630" t="21877" r="15630" b="28123"/>
          <a:stretch/>
        </p:blipFill>
        <p:spPr>
          <a:xfrm>
            <a:off x="380880" y="137160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9" descr="Portico-logo_amy"/>
          <p:cNvPicPr/>
          <p:nvPr/>
        </p:nvPicPr>
        <p:blipFill>
          <a:blip r:embed="rId4"/>
          <a:srcRect l="0" t="26986" r="32224" b="0"/>
          <a:stretch/>
        </p:blipFill>
        <p:spPr>
          <a:xfrm>
            <a:off x="-609480" y="4343400"/>
            <a:ext cx="2514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"/>
          <p:cNvSpPr txBox="1"/>
          <p:nvPr/>
        </p:nvSpPr>
        <p:spPr>
          <a:xfrm>
            <a:off x="-152640" y="1218960"/>
            <a:ext cx="8762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2600">
              <a:spcBef>
                <a:spcPts val="11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STOR</a:t>
            </a:r>
            <a:r>
              <a:rPr b="1" lang="zh-TW" sz="2000" spc="-1" strike="noStrike">
                <a:solidFill>
                  <a:srgbClr val="000000"/>
                </a:solidFill>
                <a:latin typeface="Book Antiqua"/>
              </a:rPr>
              <a:t>回溯期刊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： 針對多學科和專門學科的一系列資料庫，可存取超過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1,000 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種學術期刊的完整回溯內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739800" indent="-282600">
              <a:spcBef>
                <a:spcPts val="11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STOR</a:t>
            </a:r>
            <a:r>
              <a:rPr b="1" lang="zh-TW" sz="2000" spc="-1" strike="noStrike">
                <a:solidFill>
                  <a:srgbClr val="000000"/>
                </a:solidFill>
                <a:latin typeface="Book Antiqua"/>
              </a:rPr>
              <a:t>學術現刊計劃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： 最新的各期期刊以資料庫或單獨出版物的形式提供。 </a:t>
            </a:r>
            <a:br>
              <a:rPr sz="2000"/>
            </a:br>
            <a:r>
              <a:rPr b="0" lang="en-US" sz="2000" spc="-1" strike="noStrike">
                <a:solidFill>
                  <a:srgbClr val="595959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739800" indent="-282600">
              <a:spcBef>
                <a:spcPts val="11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rimary Source Collection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： 我們得以透過與各大圖書館、博物館和學術協會的合作，提供多種主要來源資料庫，</a:t>
            </a:r>
            <a:r>
              <a:rPr b="0" lang="zh-TW" sz="2000" spc="-1" strike="noStrike">
                <a:solidFill>
                  <a:srgbClr val="595959"/>
                </a:solidFill>
                <a:latin typeface="Book Antiqua"/>
              </a:rPr>
              <a:t>以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補充期刊資料庫。 這些主要來源資料庫包括專論、宣傳冊、信件、原始標本、政府文書、圖紙和畫作等等。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595959"/>
              </a:solidFill>
              <a:latin typeface="Book Antiqua"/>
            </a:endParaRPr>
          </a:p>
          <a:p>
            <a:pPr lvl="1" marL="739800" indent="-282600">
              <a:spcBef>
                <a:spcPts val="11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JSTOR </a:t>
            </a:r>
            <a:r>
              <a:rPr b="1" lang="zh-TW" sz="2000" spc="-1" strike="noStrike">
                <a:solidFill>
                  <a:srgbClr val="000000"/>
                </a:solidFill>
                <a:latin typeface="Book Antiqua"/>
              </a:rPr>
              <a:t>電子書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： 從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2012 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年秋季開始，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JSTOR </a:t>
            </a:r>
            <a:r>
              <a:rPr b="0" lang="zh-TW" sz="2000" spc="-1" strike="noStrike">
                <a:solidFill>
                  <a:srgbClr val="000000"/>
                </a:solidFill>
                <a:latin typeface="Book Antiqua"/>
              </a:rPr>
              <a:t>平台將會增添來自一流大學出版社和其他學術出版機構的圖書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Book Antiqua"/>
            </a:endParaRPr>
          </a:p>
        </p:txBody>
      </p:sp>
      <p:sp>
        <p:nvSpPr>
          <p:cNvPr id="1271" name="Rectangle 8"/>
          <p:cNvSpPr/>
          <p:nvPr/>
        </p:nvSpPr>
        <p:spPr>
          <a:xfrm>
            <a:off x="343080" y="228600"/>
            <a:ext cx="61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747155"/>
                </a:solidFill>
                <a:latin typeface="標楷體"/>
                <a:ea typeface="標楷體"/>
              </a:rPr>
              <a:t>認識</a:t>
            </a:r>
            <a:r>
              <a:rPr b="1" lang="en-US" sz="3600" spc="-1" strike="noStrike">
                <a:solidFill>
                  <a:srgbClr val="747155"/>
                </a:solidFill>
                <a:latin typeface="Book Antiqua"/>
                <a:ea typeface="標楷體"/>
              </a:rPr>
              <a:t>JSTOR</a:t>
            </a:r>
            <a:r>
              <a:rPr b="1" lang="zh-TW" sz="3600" spc="-1" strike="noStrike">
                <a:solidFill>
                  <a:srgbClr val="747155"/>
                </a:solidFill>
                <a:latin typeface="標楷體"/>
                <a:ea typeface="標楷體"/>
              </a:rPr>
              <a:t>：出版品及服務</a:t>
            </a:r>
            <a:endParaRPr b="1" lang="en-US" sz="3600" spc="-1" strike="noStrike">
              <a:solidFill>
                <a:srgbClr val="41566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23720" y="107640"/>
            <a:ext cx="771696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22640"/>
                </a:solidFill>
                <a:latin typeface="Book Antiqua"/>
              </a:rPr>
              <a:t>認識</a:t>
            </a:r>
            <a:r>
              <a:rPr b="1" lang="en-US" sz="3600" spc="-1" strike="noStrike">
                <a:solidFill>
                  <a:srgbClr val="922640"/>
                </a:solidFill>
                <a:latin typeface="Book Antiqua"/>
              </a:rPr>
              <a:t>JSTOR</a:t>
            </a:r>
            <a:r>
              <a:rPr b="1" lang="zh-TW" sz="3600" spc="-1" strike="noStrike">
                <a:solidFill>
                  <a:srgbClr val="922640"/>
                </a:solidFill>
                <a:latin typeface="Book Antiqua"/>
              </a:rPr>
              <a:t>：目標</a:t>
            </a:r>
            <a:endParaRPr b="0" lang="en-US" sz="36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23360" y="964800"/>
            <a:ext cx="8315640" cy="56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Book Antiqua"/>
                <a:ea typeface="標楷體"/>
              </a:rPr>
              <a:t>完整收錄學術期刊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JSTOR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從刊物的第一卷第一期製作電子版本，同時完含完整的卷期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,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目的在建立可信賴及全面性的學術期刊資料庫 。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JSTOR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提供與原始期刊相同之期刊頁面，同時提供全文檢索。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Book Antiqua"/>
                <a:ea typeface="標楷體"/>
              </a:rPr>
              <a:t>減少圖書館館藏空間不足的困擾，並做永久保存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將紙本式期刊轉換成可節省空間的電子期刊。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減少圖書館長期保存期刊文獻的資本及營運成本。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Book Antiqua"/>
                <a:ea typeface="標楷體"/>
              </a:rPr>
              <a:t>協助研究機構及出版社將出版品轉換成電子檔</a:t>
            </a:r>
            <a:endParaRPr b="0" lang="en-US" sz="20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JSTOR Archive collections---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回溯期刊收錄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平均有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3-5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的時間間隔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JSTOR Current Scholarship Program (CSP) ---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現刊收錄，自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011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開始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JSTOR E-books --- 2012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開始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  <a:p>
            <a:pPr lvl="1" marL="820800" indent="-285840"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提供文獻連結功能協助取得更多全文。</a:t>
            </a:r>
            <a:endParaRPr b="0" lang="en-US" sz="18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20280" y="147600"/>
            <a:ext cx="757548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5a595f"/>
                </a:solidFill>
                <a:latin typeface="Book Antiqua"/>
              </a:rPr>
              <a:t>認識</a:t>
            </a:r>
            <a:r>
              <a:rPr b="1" lang="en-US" sz="3600" spc="-1" strike="noStrike">
                <a:solidFill>
                  <a:srgbClr val="5a595f"/>
                </a:solidFill>
                <a:latin typeface="Book Antiqua"/>
              </a:rPr>
              <a:t>JSTOR</a:t>
            </a:r>
            <a:r>
              <a:rPr b="1" lang="zh-TW" sz="3600" spc="-1" strike="noStrike">
                <a:solidFill>
                  <a:srgbClr val="5a595f"/>
                </a:solidFill>
                <a:latin typeface="Book Antiqua"/>
              </a:rPr>
              <a:t>：其特色及重要性</a:t>
            </a:r>
            <a:endParaRPr b="0" lang="en-US" sz="3600" spc="-1" strike="noStrike">
              <a:solidFill>
                <a:srgbClr val="5a595f"/>
              </a:solidFill>
              <a:latin typeface="Book Antiqu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98040" y="891720"/>
            <a:ext cx="611028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JSTOR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選擇期刊的原則主要有以下四點：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訂購該期刊的圖書館數量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該期刊的影響指數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各學科專家推薦意見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期刊發行的年代長短。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JSTOR’s Participating </a:t>
            </a:r>
            <a:r>
              <a:rPr b="0" lang="zh-TW" sz="1600" spc="-1" strike="noStrike">
                <a:solidFill>
                  <a:srgbClr val="000000"/>
                </a:solidFill>
                <a:latin typeface="Book Antiqua"/>
                <a:ea typeface="標楷體"/>
              </a:rPr>
              <a:t>出版社資訊</a:t>
            </a:r>
            <a:endParaRPr b="0" lang="en-US" sz="1600" spc="-1" strike="noStrike">
              <a:solidFill>
                <a:srgbClr val="5a595f"/>
              </a:solidFill>
              <a:latin typeface="Book Antiqua"/>
            </a:endParaRPr>
          </a:p>
        </p:txBody>
      </p:sp>
      <p:graphicFrame>
        <p:nvGraphicFramePr>
          <p:cNvPr id="1276" name="Object 6"/>
          <p:cNvGraphicFramePr/>
          <p:nvPr/>
        </p:nvGraphicFramePr>
        <p:xfrm>
          <a:off x="800280" y="3044880"/>
          <a:ext cx="6108480" cy="336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280" y="3044880"/>
                    <a:ext cx="610848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8" name=""/>
          <p:cNvGraphicFramePr/>
          <p:nvPr/>
        </p:nvGraphicFramePr>
        <p:xfrm>
          <a:off x="5607000" y="898560"/>
          <a:ext cx="3198960" cy="2190600"/>
        </p:xfrm>
        <a:graphic>
          <a:graphicData uri="http://schemas.openxmlformats.org/drawingml/2006/table">
            <a:tbl>
              <a:tblPr/>
              <a:tblGrid>
                <a:gridCol w="2077920"/>
                <a:gridCol w="1121040"/>
              </a:tblGrid>
              <a:tr h="365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922640"/>
                          </a:solidFill>
                          <a:latin typeface="Book Antiqua"/>
                          <a:ea typeface="標楷體"/>
                        </a:rPr>
                        <a:t>**</a:t>
                      </a:r>
                      <a:r>
                        <a:rPr b="0" lang="en-US" sz="1600" spc="-1" strike="noStrike">
                          <a:solidFill>
                            <a:srgbClr val="922640"/>
                          </a:solidFill>
                          <a:latin typeface="Book Antiqua"/>
                          <a:ea typeface="標楷體"/>
                        </a:rPr>
                        <a:t>JSTOR </a:t>
                      </a:r>
                      <a:r>
                        <a:rPr b="0" lang="zh-TW" sz="1600" spc="-1" strike="noStrike">
                          <a:solidFill>
                            <a:srgbClr val="922640"/>
                          </a:solidFill>
                          <a:latin typeface="Book Antiqua"/>
                          <a:ea typeface="標楷體"/>
                        </a:rPr>
                        <a:t>會員資訊及出版社資訊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美國境內會員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2,993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國際會員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5,009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會員數合計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7,027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分佈國家數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156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參與出版社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標楷體"/>
                        </a:rPr>
                        <a:t>817</a:t>
                      </a:r>
                      <a:endParaRPr b="1" lang="en-US" sz="1600" spc="-1" strike="noStrike">
                        <a:solidFill>
                          <a:srgbClr val="4156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/>
          </p:nvPr>
        </p:nvSpPr>
        <p:spPr>
          <a:xfrm>
            <a:off x="1062000" y="1240920"/>
            <a:ext cx="695160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認識</a:t>
            </a: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JSTOR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5a595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JSTOR</a:t>
            </a:r>
            <a:r>
              <a:rPr b="1" lang="zh-TW" sz="2800" spc="-1" strike="noStrike">
                <a:solidFill>
                  <a:srgbClr val="5a595f"/>
                </a:solidFill>
                <a:latin typeface="Book Antiqua"/>
                <a:ea typeface="標楷體"/>
              </a:rPr>
              <a:t>界面使用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  <a:p>
            <a:pPr marL="380880" indent="-380880">
              <a:lnSpc>
                <a:spcPct val="115000"/>
              </a:lnSpc>
              <a:spcBef>
                <a:spcPts val="700"/>
              </a:spcBef>
              <a:buClr>
                <a:srgbClr val="cbd7de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MYJSTOR</a:t>
            </a:r>
            <a:r>
              <a:rPr b="1" lang="zh-TW" sz="2800" spc="-1" strike="noStrike">
                <a:solidFill>
                  <a:srgbClr val="cbd7de"/>
                </a:solidFill>
                <a:latin typeface="Book Antiqua"/>
                <a:ea typeface="標楷體"/>
              </a:rPr>
              <a:t>功能說明</a:t>
            </a:r>
            <a:endParaRPr b="0" lang="en-US" sz="2800" spc="-1" strike="noStrike">
              <a:solidFill>
                <a:srgbClr val="5a595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6:29:03Z</dcterms:created>
  <dc:creator>jcrowe</dc:creator>
  <dc:description/>
  <dc:language>en-US</dc:language>
  <cp:lastModifiedBy>rikachin</cp:lastModifiedBy>
  <dcterms:modified xsi:type="dcterms:W3CDTF">2014-11-18T09:08:26Z</dcterms:modified>
  <cp:revision>432</cp:revision>
  <dc:subject/>
  <dc:title>Slide 1</dc:title>
</cp:coreProperties>
</file>